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2"/>
          <p:cNvSpPr/>
          <p:nvPr/>
        </p:nvSpPr>
        <p:spPr>
          <a:xfrm>
            <a:off x="2849040" y="8718480"/>
            <a:ext cx="11599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5-</a:t>
            </a:r>
            <a:fld id="{CA3F13ED-57B2-4C70-B267-F7F86772EA2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9436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2888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592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2888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4592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1132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9376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288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1132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9376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288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4592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1680" y="5331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592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2888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592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4592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2888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4592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2888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8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2286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9520" y="6523200"/>
            <a:ext cx="3224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184880" y="4084560"/>
            <a:ext cx="292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Methadone Take Home Dosing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ic C. Strain, M.D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s Hopkins University School of Medicin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th Annual Conference on Substance Use and HIV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oi, Viet Na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gust 3-5, 2017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517680" y="6475320"/>
            <a:ext cx="5070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like getting take home d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y give take home doses of methado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565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Patients like getting take home do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577800" y="110808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952560" y="1523880"/>
            <a:ext cx="6400800" cy="480852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7514280" y="2057400"/>
            <a:ext cx="261756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 of pati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etha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 (n=5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d what th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red most as clin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titzer and Bigelow, 197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565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Patients like getting take home do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577800" y="110808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952560" y="1523880"/>
            <a:ext cx="6400800" cy="4808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7514280" y="2057400"/>
            <a:ext cx="261756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 of pati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etha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 (n=5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d what th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red most as clin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titzer and Bigelow, 197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7505640" y="2022480"/>
            <a:ext cx="2635200" cy="23209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565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Patients like getting take home do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77800" y="110808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952560" y="1523880"/>
            <a:ext cx="6400800" cy="4808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1562040" y="1638360"/>
            <a:ext cx="4800600" cy="838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Straight Arrow Connector 5"/>
          <p:cNvCxnSpPr/>
          <p:nvPr/>
        </p:nvCxnSpPr>
        <p:spPr>
          <a:xfrm flipH="1" flipV="1">
            <a:off x="2247480" y="2361600"/>
            <a:ext cx="3658320" cy="1448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6" name="TextBox 11"/>
          <p:cNvSpPr/>
          <p:nvPr/>
        </p:nvSpPr>
        <p:spPr>
          <a:xfrm>
            <a:off x="7514280" y="2057400"/>
            <a:ext cx="261756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 of pati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etha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 (n=5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d what th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red most as clin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titzer and Bigelow, 197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home doses can be effectively used to achieve defined goals of treatment (most typically, drug abstinence – can be opioid use, or even other drug use; can also use for other goals of treat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ositive incentive, part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ingent Managem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y give take home doses of methado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gencies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seems like there are some patients who respond to incentive of methadone take home doses, and some who don’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y give take home doses of methado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565200" y="533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y give take home doses of methado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577800" y="118440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43080" y="1603440"/>
            <a:ext cx="6670440" cy="4495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7353360" y="2057400"/>
            <a:ext cx="28195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s with persis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use (opioid and/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caine) at baseline; small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given Tak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 doses contin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negative uri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s (vs. contro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Chutuape et al., 199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565200" y="533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y give take home doses of methado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577800" y="118440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7353360" y="2057400"/>
            <a:ext cx="28195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s with persis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use (opioid and/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caine) at baseline; small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given Tak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 doses contin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negative uri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s (vs. contro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Chutuape et al., 199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43080" y="1603440"/>
            <a:ext cx="6670440" cy="44956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7201080" y="1881360"/>
            <a:ext cx="2971800" cy="3376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565200" y="533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y give take home doses of methado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577800" y="118440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7353360" y="20574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gent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be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43080" y="1603440"/>
            <a:ext cx="6670440" cy="4495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1638360" y="2590920"/>
            <a:ext cx="4800600" cy="10666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Straight Arrow Connector 7"/>
          <p:cNvCxnSpPr/>
          <p:nvPr/>
        </p:nvCxnSpPr>
        <p:spPr>
          <a:xfrm flipH="1">
            <a:off x="6438240" y="2765520"/>
            <a:ext cx="1981800" cy="358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565200" y="533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y give take home doses of methado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577800" y="118440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606600" y="1374840"/>
            <a:ext cx="6540480" cy="5089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353360" y="20574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responder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particularly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Straight Arrow Connector 6"/>
          <p:cNvCxnSpPr/>
          <p:nvPr/>
        </p:nvCxnSpPr>
        <p:spPr>
          <a:xfrm flipH="1">
            <a:off x="5676120" y="3047760"/>
            <a:ext cx="2972520" cy="872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3" name="Rectangle 8"/>
          <p:cNvSpPr/>
          <p:nvPr/>
        </p:nvSpPr>
        <p:spPr>
          <a:xfrm>
            <a:off x="2376360" y="3386160"/>
            <a:ext cx="3300480" cy="10666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495360" y="2438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quick overview – methadone take home do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Methadone take home dosing: bottom 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a very effective treatment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decrease clinic operational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patients who are doing well, makes their treatment less burden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Methadone take home dosing: bottom 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 What are take home do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. How does take home dosing work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. Why give take home do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Outline for this ta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. What are take home do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. How does take home dosing work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. Why give take home do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Outline for this ta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a patient to come to clinic, get a dose of methadone under supervision at the clinic, and then receive another dose (or doses) to take home to have for following day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typically give the dose in a bottle mixed with cherry or orange syr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called a take away d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What are take home dos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 What are take home do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I. How does take home dosing work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. Why give take home do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Outline for this ta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clinics close on Sundays, and give automatic take home dose on Saturdays (all patients); patient then takes the dose on Sun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e don’t do this – clinics open 7 days/wee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.S., take home doses can be for 1-29 days; most commonly, we give 6 take home do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 patients to keep the doses in a lock box, to prevent dose being taken by someon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How does take home dosing work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565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Lockbox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577800" y="110808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419040" y="2338560"/>
            <a:ext cx="429588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838760" y="1295280"/>
            <a:ext cx="49784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 What are take home do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. How does take home dosing work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II. Why give take home do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6520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rial"/>
              </a:rPr>
              <a:t>Outline for this ta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577800" y="1717560"/>
            <a:ext cx="91188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8:30:44Z</dcterms:created>
  <dc:creator/>
  <dc:description/>
  <cp:keywords/>
  <dc:language>en-US</dc:language>
  <cp:lastModifiedBy>Microsoft Office User</cp:lastModifiedBy>
  <cp:lastPrinted>2000-10-13T22:44:23Z</cp:lastPrinted>
  <dcterms:modified xsi:type="dcterms:W3CDTF">2017-07-18T16:35:07Z</dcterms:modified>
  <cp:revision>750</cp:revision>
  <dc:subject/>
  <dc:title>Pharmacodynamic Profile of Enadoline,  A Selective Kappa (k) Agonist,  in Humans</dc:title>
</cp:coreProperties>
</file>