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AB34-6219-4D09-9959-6ECDB4D1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F35-C160-4E34-9AC0-9623ED23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D913-3102-42BC-AD0A-F374D752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0AD-169E-43F6-811E-3CD0FBD7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1CFC-3482-4B3B-827C-D40FA72A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CE17-43C3-4963-83E1-F231FB80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3167-8970-45D7-B374-9E837BF2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D993-DAEB-44B0-968A-07030876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689F-D969-499D-99BA-3AF290A8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8B55-3394-43EF-9E80-6E492B4F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B7AE-67AE-4777-A843-70D7329D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733-EBC6-4A20-85E1-440560F8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7F1F-85FD-4DCE-9396-FBF8712B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F978-8F6E-408A-87EE-4D7D53D8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4FFD-BB64-4936-A65B-78663060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F30A-2CCB-402D-B5BB-0268D0EA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3708-9694-4EB5-88FA-8F778C7A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F3B13-C45C-4642-90C8-1948B7B3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4C844-7F68-4702-8291-D0799630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57B7F-1865-494F-8BEB-12B57749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7E32E-B405-4C97-B46A-22BFFA41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7E3CD-19A1-4CB2-87E2-E201E29B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D999-0DAF-4D4C-B6E7-8E32ACE3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47BF3-A580-473E-9BA1-AEC94C55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B78DF-4ED9-47D7-B041-7D15F46B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6B3CD-31E1-4128-BAC7-D3F48345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E1388-490E-4894-978E-526BECE6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F0C55-5333-4377-9478-A289798F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F8341-E612-4CDC-B5F1-6893D939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6B990-2CB9-4D23-AB00-49C9E24C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30DB8-A29C-430D-8249-A82950E6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A7952-5583-495D-A1B1-0F4C03E0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D9B7B-EE33-4431-891F-E5DD3B21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B1D9-4826-4897-B87C-76BBB1CC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C80AD-6E0F-4B0D-BDC6-3146D99B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05BCD-FAE3-411C-A308-E8EC60A4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9656A-0062-4A3B-917A-9A129395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F6D90-FEE7-405C-9214-87F5ECDE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78C0D-F650-4C5B-9A62-2AD0606F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FB652-CCA4-4470-BE0D-A9F008E9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B6DB6-9E72-4202-A5A0-80B3C36C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F5D64-0C50-44F0-8D2B-FAADEF53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74375-0A9F-4B0E-B838-75D26615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170CD-FA68-470C-B7B5-AF9B3186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7303-8439-4E3C-A866-18A1D3B6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0AF08-C4F6-49A1-9E9B-4FEE8FFE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30021-2D46-4A3C-9184-C045BEF7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750CC-8C67-46D1-9061-8C205D3F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A2E2F-C205-4DB8-9684-84E53168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E4DF2-F113-43AF-8B27-8CE034B8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E7DB8-5145-447A-88E6-F8FDD656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1CDE8-64D4-4C37-9756-4CC57443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3B50A-0891-4F0A-924F-5E1A79B3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1E06D-3386-466B-99D4-EA03B5BC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72F7F-02FE-4F30-A398-061CDA72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18F-37D4-4756-BE88-245C0E2E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1E3C1-FD51-4312-A41F-DE489A0C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D634C-B3EE-4460-8953-6A3495D8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C0002-EDAD-4F34-A35D-ECEC3497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08CD7-FB1B-44D9-ADC6-F34E1F6D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4CBB1-3AFE-4DB6-B9EA-E26BA751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6D0D1-F6FA-4520-B69F-2F944D40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594B9-26B3-4CC1-BCE0-65959907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9A9DC-9902-4F9A-89A9-319C59DB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56248-F184-42BD-B85A-DB453440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7482F-B35E-4235-8DFD-1E839A7B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E273-8A50-4B49-92F1-5EA5F298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C0284-4AAD-4496-B275-5D2C8104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B408F-B816-4F37-A61A-94D3B3AF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A94EC-286C-4BFD-8AC2-64957461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220-A18B-4815-A488-B161EEDF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671-9A3B-49FD-9734-31E12E9A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F3CD-7C11-4EAF-97DD-ACB8926E3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"/>
          <p:cNvGrpSpPr/>
          <p:nvPr/>
        </p:nvGrpSpPr>
        <p:grpSpPr>
          <a:xfrm>
            <a:off x="1828800" y="76320"/>
            <a:ext cx="6934320" cy="838080"/>
            <a:chOff x="1828800" y="76320"/>
            <a:chExt cx="6934320" cy="838080"/>
          </a:xfrm>
        </p:grpSpPr>
        <p:pic>
          <p:nvPicPr>
            <p:cNvPr id="42" name="Picture 6" descr=""/>
            <p:cNvPicPr/>
            <p:nvPr/>
          </p:nvPicPr>
          <p:blipFill>
            <a:blip r:embed="rId3"/>
            <a:stretch/>
          </p:blipFill>
          <p:spPr>
            <a:xfrm>
              <a:off x="1828800" y="76320"/>
              <a:ext cx="8344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7" descr=""/>
            <p:cNvPicPr/>
            <p:nvPr/>
          </p:nvPicPr>
          <p:blipFill>
            <a:blip r:embed="rId4"/>
            <a:stretch/>
          </p:blipFill>
          <p:spPr>
            <a:xfrm>
              <a:off x="5542920" y="114120"/>
              <a:ext cx="892800" cy="6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8" descr=""/>
            <p:cNvPicPr/>
            <p:nvPr/>
          </p:nvPicPr>
          <p:blipFill>
            <a:blip r:embed="rId5"/>
            <a:stretch/>
          </p:blipFill>
          <p:spPr>
            <a:xfrm>
              <a:off x="4054320" y="135720"/>
              <a:ext cx="1393200" cy="65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"/>
            <p:cNvPicPr/>
            <p:nvPr/>
          </p:nvPicPr>
          <p:blipFill>
            <a:blip r:embed="rId6"/>
            <a:stretch/>
          </p:blipFill>
          <p:spPr>
            <a:xfrm>
              <a:off x="6669720" y="187200"/>
              <a:ext cx="2093400" cy="54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" descr=""/>
            <p:cNvPicPr/>
            <p:nvPr/>
          </p:nvPicPr>
          <p:blipFill>
            <a:blip r:embed="rId7"/>
            <a:stretch/>
          </p:blipFill>
          <p:spPr>
            <a:xfrm>
              <a:off x="3032280" y="91800"/>
              <a:ext cx="799560" cy="79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12" descr=""/>
          <p:cNvPicPr/>
          <p:nvPr/>
        </p:nvPicPr>
        <p:blipFill>
          <a:blip r:embed="rId8"/>
          <a:stretch/>
        </p:blipFill>
        <p:spPr>
          <a:xfrm>
            <a:off x="482760" y="152280"/>
            <a:ext cx="888840" cy="621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48" name="Rectangle 8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c02f52">
              <a:alpha val="75000"/>
            </a:srgbClr>
          </a:solidFill>
          <a:ln w="9360">
            <a:solidFill>
              <a:srgbClr val="b6dcdf">
                <a:alpha val="70000"/>
              </a:srgbClr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87480" y="6019920"/>
            <a:ext cx="674640" cy="76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077320" y="6019920"/>
            <a:ext cx="1036440" cy="7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6555-075E-43E3-8EC8-3EF5CE221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380880" y="228600"/>
            <a:ext cx="845820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9360">
            <a:solidFill>
              <a:srgbClr val="b6dcdf">
                <a:alpha val="70000"/>
              </a:srgbClr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0931-B465-47D6-A72D-ACB631BF9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80880" y="228600"/>
            <a:ext cx="845820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9360">
            <a:solidFill>
              <a:srgbClr val="b6dcdf">
                <a:alpha val="70000"/>
              </a:srgbClr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079D-F850-47D8-86FF-6EFE42B8F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380880" y="228600"/>
            <a:ext cx="845820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9360">
            <a:solidFill>
              <a:srgbClr val="b6dcdf">
                <a:alpha val="70000"/>
              </a:srgbClr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6D30-F0CD-49A2-ADD6-AAE307B3E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380880" y="228600"/>
            <a:ext cx="8458200" cy="1270080"/>
          </a:xfrm>
          <a:prstGeom prst="rect">
            <a:avLst/>
          </a:prstGeom>
          <a:solidFill>
            <a:srgbClr val="c02f52">
              <a:alpha val="75000"/>
            </a:srgbClr>
          </a:solidFill>
          <a:ln w="9360">
            <a:solidFill>
              <a:srgbClr val="b6dcdf">
                <a:alpha val="70000"/>
              </a:srgbClr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7513-862E-472B-A140-A66727A8D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ách thức trong lồng ghép điều trị nghiện chất dạng thuốc phiện bằng Buprenorphine vào cơ sở điều trị HIV ngoại trú ở Hà Nộ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71928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Kinh nghiệm từ một nghiên cứu thử nghiệm lâm sà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S. BS. Nguyễn Bích Diệ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GS.TS. Lê Minh Gi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ng tâm Chuyển giao công nghệ Điều trị nghiện chấ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òng chống HIV/AIDS (VHAT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ường Đại học Y Hà N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9200" y="533160"/>
            <a:ext cx="8247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ơ cấu nhóm cán bộ nghiên cứu tại cơ s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457200" y="2057400"/>
            <a:ext cx="83818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ám đốc/Điều phối nghiên cứ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ác s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t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 vấn viê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ược sỹ/cấp phát thuố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Hỗ trợ kĩ thuật của cán bộ ĐH Y Hà Nộ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ực tiếp hỗ trợ khởi liều những bệnh nhân đầu tiên (3 - 5 bệnh nhân/cơ sở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ỗ trợ các trường hợp bệnh nhân kh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ỗ trợ qua điện tho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ảo luận ca bệnh định kỳ (1 </a:t>
            </a:r>
            <a:r>
              <a:rPr b="0" lang="mr-IN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 tháng/lầ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ổ chức họp tại cơ sở định kỳ (2 tuần/lầ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Đào tạo cho cán bộ mới và đào tạo liên tục dựa trên nhu cầu thực tế khi triển kh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ào tạo củng cố kiến thức về thuốc và quy trình điều tr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ăng cường sự tham gia/hỗ trợ của người nhà trước và trong quá trình điều tr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ột số chiến lược tăng cường tuân thủ và hiệu quả điều tr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380880" y="235728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ÁCH THỨC TRONG TRIỂN KHA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LỒNG GHÉP ĐIỀU TRỊ BUPRENORPHINE VÀ 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Thách thức của điều trị Buprenorph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ốc mới -&gt; bệnh nhân chưa có nhiều thông tin và chưa tin tưởng vào hiệu qu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ởi liều khó khăn do cần có hội chứng cai và thuốc không được mang về nh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ốc ngậm dưới lưỡi -&gt; thời gian ngậm thuốc lâu, một số bệnh nhân không thích vị thuố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ệnh nhân bỏ điều trị do dùng heroin không thấy ph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ông có quy trình hỗ trợ hiệu quả đối với các bệnh đồng diễn, đặc biệt là vấn đề rối loạn tâm thầ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ông được điều trị lâu dài (tại thời điểm hiện tạ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ông có hệ thống chuyển gửi điều trị Buprenorphine (khi bệnh nhân cần đi x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ách thức khi lồng ghép với điều trị A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457200" y="1604880"/>
            <a:ext cx="838188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ừ phía cơ sở/cán bộ y t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án bộ kiêm nhiệm nhiều công việc, có thể không th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ờng xuyên có mặt và có nhiều thời gian hỗ trợ bệnh nhâ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Ít được đào tạo và ít kinh nghiệm điều trị nghiệ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òn nhiều định kiến với người nghiệ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ông có kho bảo quản thuốc buprenorphine đủ tiêu chuẩ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ông đủ nhân sự để giám sát quá trình ngậm thuố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ông có chương trình/hệ thống đào tạo bài bản do không được hỗ trợ của PAC/VA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ó khăn trong áp dụng các can thiệp hành 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ông có quy trình làm việc vào cuối tuần, ngày l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ách thức khi lồng ghép với điều trị A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457200" y="1752480"/>
            <a:ext cx="83818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ừ phía bệnh nhâ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âm lý e ngại khi điều trị tại OPC (môi trường ít bệnh nhân nghiệ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guy cơ lộ thông tin về tình trạng nghiện và/hoặc H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oảng cách tới phòng khám xa, khó khăn trong di chuyể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ay đổi mô hình quản lý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ơ sở điều trị ngoại trú 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38040" y="160812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ông văn số 9293/BYT-AIDS ngày 27/11/2015 của Bộ Y tế về kiện toàn cơ sở điều trị và thực hiện khám chữa bệnh bảo hiểm y tế cho người nhiễm HIV/AIDS: chuyển đổi quản lý cơ sở điều trị ngoại trú HIV sang các đơn vị khám chữa bệnh có chức năng chi trả bảo hiểm y t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ông văn số 87/AIDS-ĐTr, ngày 21/2/2017 của Cục phòng chống HIV/AIDS về Hoàn thành kiện toàn cơ sở điều trị và thực hiện khám bệnh, chữa bệnh HIV/AIDS qua bảo hiểm y tế đối với các thành phố trực thuộc Trung ươ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y đổi nhân sự: BS cần có chứng chỉ hành nghề, không có vị trí tư vấn viê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ăng khối lượng công việc của bác sỹ và cán bộ cấp phát thuố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ự chồng chéo trong việc quản lý chuyên môn và nhân sự nghiên cứu khi chuyển đổi hình thức quản lý cơ sở O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ự trao đổi thông tin, phối hợp điều trị giữa các cán b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ay đổi mô hình quản lý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ơ sở điều trị ngoại trú 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Content Placeholder 6" descr="dog-with-brown-paper-bag-thankyou.png"/>
          <p:cNvPicPr/>
          <p:nvPr/>
        </p:nvPicPr>
        <p:blipFill>
          <a:blip r:embed="rId1"/>
          <a:stretch/>
        </p:blipFill>
        <p:spPr>
          <a:xfrm>
            <a:off x="1676520" y="914400"/>
            <a:ext cx="5751360" cy="5156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"/>
          <p:cNvPicPr/>
          <p:nvPr/>
        </p:nvPicPr>
        <p:blipFill>
          <a:blip r:embed="rId2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623880"/>
            <a:ext cx="8381880" cy="4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ĐẶT VẤN Đ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120" y="170028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Nghiệ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chíc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 túy chất dạng thuốc phiện (NCMT) và nhiễm HI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 đường chính 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lây nhiễm HIV tại Việt Nam</a:t>
            </a:r>
            <a:r>
              <a:rPr b="0" lang="vi-VN" sz="1600" spc="-1" strike="noStrike" baseline="30000">
                <a:solidFill>
                  <a:srgbClr val="000000"/>
                </a:solidFill>
                <a:latin typeface="Arial"/>
              </a:rPr>
              <a:t>1,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ảm khả năng tiếp 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cận các dịch vụ HIV</a:t>
            </a:r>
            <a:r>
              <a:rPr b="0" lang="vi-VN" sz="1600" spc="-1" strike="noStrike" baseline="30000">
                <a:solidFill>
                  <a:srgbClr val="000000"/>
                </a:solidFill>
                <a:latin typeface="Arial"/>
              </a:rPr>
              <a:t>3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ác động xấu đến tham gia và duy trì điều trị HIV</a:t>
            </a:r>
            <a:r>
              <a:rPr b="0" lang="vi-VN" sz="16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ợi ích của lồng ghép điều trị nghiện chất dạng thuốc phiện cho bệnh nhân HIV/AID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ă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ức độ tham gia điều tr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ủa bệnh nhân A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ảm sử dụng chất dạng thuốc phiện ở bệnh nhâ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ảm hành vi nguy cơ do TCMT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giảm tỉ lệ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ây 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nhiễm 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Điều trị thay thế bằng Methadone tại Việt Nam từ năm 2008 ngày càng mở rộng, như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ách thức trong tuân thủ điều trị (Yêu cầu uống thuốc hàng ngà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ố cơ sở điều trị hạn chế do đầu tư xây dựng cơ sở khá tốn ké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ỳ thị, đối tượng nghiện lớn tuổi, giá cả, cơ chế chi trả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-8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hu cầu đa dạng hóa các mô hình điều trị nghiện chất dạng thuốc phiệ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1600200" y="6119640"/>
            <a:ext cx="67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Nguyễn et al  ADDICTION 2008; 2.Strathdee et al  LANCET 2010; 3. Garder et al CLIN.INF.DIS 2011; 4. Lucas et al J.AIDS 2001; 5. Wood et al JAMA 2008; 6. Friedmann et al J.SAT 2001; 7. Deering et al ADDIC.BEH 2011; 8. Lin et al J.SUM 2011; 9. Bich Diep Nguyen et al Journal of Substance Abuse Treatment 2016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9840" y="456840"/>
            <a:ext cx="833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ỤC TIÊU NGHIÊN CỨ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599840"/>
            <a:ext cx="83818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ục tiêu chung: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So sán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ệu quả điều trị nghiện và hỗ trợ điều trị HIV của hai thuốc điều trị nghiện chất dạng thuốc phiện – điều trị Suboxone (BUP/NX) tại cơ sở điều trị HIV ngoại trú và điều trị bằng Methadone tại cơ sở điều trị Methadone – trên nhóm bệnh nhân HIV nghiện chất dạng thuốc phiện đang điều trị tại cơ sở điều trị HIV ngoại tr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ục tiêu cụ thể 1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ánh giá hiệu quả của hai mô hình đối với mức độ tham gia, tuân thủ điều trị và tải lượng vir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ục tiêu cụ thể 2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ánh giá hiệu quả của hai mô hình đối với việc sử dụng chất dạng thuốc phiệ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ục tiêu cụ thể 3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ánh giá kinh nghiệm triển khai điều trị BUP/NX tại cơ sở điều trị HIV ngoại trú nhằm tạo cơ sở cho việc nhân rộng mô hình điều trị trên toàn quố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58360"/>
            <a:ext cx="82771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ƯƠNG PHÁP NGHIÊN CỨ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676520"/>
            <a:ext cx="85341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iết kế nghiên cứ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ghiên cứu thử nghiệm lâm sàng ngẫu nhiên có đối chứng, kết hợp định lượng &amp; định tín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Địa điểm nghiên cứ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4 cơ sở điều trị HIV ngoại trú tại Hà Nội (Hoàng Mai, Đống Đa, Nam Từ Liêm và Long Biê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ời gian nghiên cứ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3/2015 đến hết tháng 9/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ai đoạn chuẩn bị: từ 3/2015 – 9/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ai đoạn thu nhận: 9/2015 – 10/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ai đoạn kết thúc theo dõi: 10/2017 – 10/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ai đoạn phân tích và viết báo cáo: 2018 </a:t>
            </a:r>
            <a:r>
              <a:rPr b="0" lang="mr-IN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6858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ơ đồ nghiên cứ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"/>
          <p:cNvGrpSpPr/>
          <p:nvPr/>
        </p:nvGrpSpPr>
        <p:grpSpPr>
          <a:xfrm>
            <a:off x="533520" y="1905120"/>
            <a:ext cx="8076600" cy="3276000"/>
            <a:chOff x="533520" y="1905120"/>
            <a:chExt cx="8076600" cy="3276000"/>
          </a:xfrm>
        </p:grpSpPr>
        <p:sp>
          <p:nvSpPr>
            <p:cNvPr id="273" name="Rectangle 6"/>
            <p:cNvSpPr/>
            <p:nvPr/>
          </p:nvSpPr>
          <p:spPr>
            <a:xfrm>
              <a:off x="533520" y="2805120"/>
              <a:ext cx="1121040" cy="140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ập huấn cơ sở, cán bộ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5"/>
            <p:cNvSpPr/>
            <p:nvPr/>
          </p:nvSpPr>
          <p:spPr>
            <a:xfrm>
              <a:off x="6269760" y="1905120"/>
              <a:ext cx="2340360" cy="32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Kết quả chính (12 tháng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) Giảm tải lượng virut HIV (Mục tiêu 1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) Đối tượng được điều trị ARV (Mục tiêu 1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) Duy trì điều trị HIV (Mục tiêu 1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) Sử dụng heroin (Mục tiêu 2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) Đánh giá việc triển khai mô hình điều trị (Mục tiêu 3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8"/>
            <p:cNvSpPr/>
            <p:nvPr/>
          </p:nvSpPr>
          <p:spPr>
            <a:xfrm>
              <a:off x="5019840" y="1922760"/>
              <a:ext cx="905400" cy="11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UP/N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n=225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90"/>
            <p:cNvSpPr/>
            <p:nvPr/>
          </p:nvSpPr>
          <p:spPr>
            <a:xfrm>
              <a:off x="1974960" y="2765880"/>
              <a:ext cx="1155240" cy="149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àng lọc, tuyển chọn đối tượ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AutoShape 39"/>
            <p:cNvCxnSpPr/>
            <p:nvPr/>
          </p:nvCxnSpPr>
          <p:spPr>
            <a:xfrm>
              <a:off x="1667880" y="3528360"/>
              <a:ext cx="321120" cy="2160"/>
            </a:xfrm>
            <a:prstGeom prst="bentConnector3">
              <a:avLst>
                <a:gd name="adj1" fmla="val 49943"/>
              </a:avLst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78" name="Rectangle 11"/>
            <p:cNvSpPr/>
            <p:nvPr/>
          </p:nvSpPr>
          <p:spPr>
            <a:xfrm>
              <a:off x="5019840" y="3713400"/>
              <a:ext cx="905400" cy="146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huyển gửi điều trị MM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n=225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2"/>
            <p:cNvSpPr/>
            <p:nvPr/>
          </p:nvSpPr>
          <p:spPr>
            <a:xfrm>
              <a:off x="3385080" y="3144240"/>
              <a:ext cx="1261440" cy="79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hân bổ ngẫu nhiê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AutoShape 127"/>
            <p:cNvCxnSpPr/>
            <p:nvPr/>
          </p:nvCxnSpPr>
          <p:spPr>
            <a:xfrm>
              <a:off x="3130200" y="3557520"/>
              <a:ext cx="269640" cy="108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1" name="AutoShape 132"/>
            <p:cNvCxnSpPr/>
            <p:nvPr/>
          </p:nvCxnSpPr>
          <p:spPr>
            <a:xfrm>
              <a:off x="5925240" y="2464200"/>
              <a:ext cx="358560" cy="108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2" name="AutoShape 15"/>
            <p:cNvCxnSpPr/>
            <p:nvPr/>
          </p:nvCxnSpPr>
          <p:spPr>
            <a:xfrm flipV="1">
              <a:off x="4646520" y="2464560"/>
              <a:ext cx="374760" cy="109332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3" name="AutoShape 16"/>
            <p:cNvCxnSpPr/>
            <p:nvPr/>
          </p:nvCxnSpPr>
          <p:spPr>
            <a:xfrm>
              <a:off x="4646520" y="3557880"/>
              <a:ext cx="374760" cy="94392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4" name="AutoShape 17"/>
            <p:cNvCxnSpPr/>
            <p:nvPr/>
          </p:nvCxnSpPr>
          <p:spPr>
            <a:xfrm>
              <a:off x="5911200" y="4414320"/>
              <a:ext cx="358920" cy="1080"/>
            </a:xfrm>
            <a:prstGeom prst="straightConnector1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</p:cxnSp>
      </p:grpSp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3886200" y="6281640"/>
            <a:ext cx="11336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iêu chuẩn lựa chọn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419040" y="1676520"/>
            <a:ext cx="830592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ừ 18 tuổi trở lê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hiễm H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ối loạn sử dụng các chất dạng thuốc phiện mức độ trung bình đến nặng theo DSM-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ết quả xét nghiệm nước tiểu tìm chất dương tín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g muốn nhận điều trị nghiện chất dạng thuốc phiệ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ẵn sàng sử dụng các biện pháp tránh thai, nếu là nữ giớ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iêu chuẩn loại trừ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4308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68000" indent="-46800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 men gan AST hoặc ALT&gt; giới hạn trên 5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Đang mang thai hoặc cho con b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 bệnh nặng hoặc các vấn đề liên quan đến thần kinh trong 30 ngày vừa qua có thể ảnh hưởng tới sự an toàn của việc tham gia nghiên cứ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Đang điều trị methadone trong vòng 30 trước thời điểm tham gia nghiên cứ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ền sử dị ứng hoặc mẫn cảm với buprenorphine hoặc nalox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457200" y="1981080"/>
          <a:ext cx="8229600" cy="35784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ơ s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ổng số BN tham gia nghiên cứ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ố BN phân bổ vào điều trị B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ố BN đã kết thúc nghiên cứ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ố BN đang điều trị B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àng M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ống Đ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ừ Liê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Biê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ổng s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ình hình tuyển chọn và duy trì bệnh nhân bệnh nhân</a:t>
            </a:r>
            <a:br>
              <a:rPr sz="26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Tính đến hết 7/2017)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3886200" y="6324480"/>
            <a:ext cx="1133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1447920" y="2362320"/>
            <a:ext cx="670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KINH NGHIỆM TRIỂN KHA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MÔ HÌNH ĐIỀU TRỊ LỒNG GHÉ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g Nguyen</dc:creator>
  <dc:description/>
  <dc:language>en-US</dc:language>
  <cp:lastModifiedBy>DCOM</cp:lastModifiedBy>
  <dcterms:modified xsi:type="dcterms:W3CDTF">2017-08-02T02:56:45Z</dcterms:modified>
  <cp:revision>1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