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4AF-77FB-4BF0-9B17-4F15C5B6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8EE-B53C-41B0-B6A1-959A9B11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340-A298-4059-A09C-BE16A263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980-5C96-4F93-808B-76865312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E449-A6A6-40A6-9C6A-A9859AFC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94BB-DCD4-4652-864B-CBB2FE0B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D30F-1B1D-4C36-A231-B13EEF0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C1BA-D0E9-4A95-ABA8-75BD5394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D4B8-7FEC-4036-A679-029CE1B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7BE9-7DFD-47DA-AF43-0450C53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B3B-8B39-4766-AB02-51B1DFA1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BF0-346E-42AC-915F-5E4949B3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17F4-2503-48E9-A5F4-3F8AB2C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144D-D14B-4EB8-846E-E7E1C83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57C4-1DA8-43E4-B99B-4F03750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7BAA-F243-47F6-B0F6-88FA809B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F21-E3D6-404C-9179-E429345D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9D4E-FCE3-42B6-AF04-BCCBEDF4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5039-002D-4F8F-8E7A-BAF4C2B2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9706-4EBA-4311-9D85-B25FAB7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598C-B951-430C-BFAA-0728FC2D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9977-6D1D-4983-B2A6-152E8B9A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DCE-645F-4E35-A5BB-5AE00BC1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1398-0438-46F7-A962-3FF6E78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787D-C56D-4154-935C-85ED0123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CB5B7-AA08-4E85-B40E-0A8D932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6B494-A6F4-47A0-B37C-233E9B0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7C08-8E09-499E-A162-653DE673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5144-EE08-4633-9A50-8A925913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8133-C79A-4DE5-892C-D60D2C65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5FFB-E85C-4D85-9E19-E7B4C4FA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203E-7F98-4C9D-86A9-9C0375F9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1FD1-8226-4839-A399-ED135C2D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D99-2254-4231-BA35-E9176713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A251-C490-4B28-B56E-D2F80F6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0105E-CAB7-4CF1-8DB0-9D074FC1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23C9-0CDC-4D68-ABC0-CF4A0B37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993E-C915-4531-AD1F-F28454B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CF6D-2F23-42AB-8E89-EDDFC60F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3B26A-E303-492E-B5A8-8704D795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58888-63C9-458D-BF61-4883980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C89D-ED6B-4D20-89CB-1C8C9D0C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CCD3-B9D7-4E86-BB01-5BD5B090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02D8-3BD6-422E-94ED-0AC55441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CEC-DB9E-4E65-902A-43A8FD86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1683-96C3-41E6-A628-2AE3B2EF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E22D-EE9C-4D47-A578-E04B4248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12EB3-8FC6-4CBD-91CB-1829BF8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EF8A9-C85C-4792-A7BE-7F719764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323C-506D-4FA2-BD02-25484926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17C9-5A88-4152-BD93-123F91F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0E773-AD47-41E9-8DA8-9C6DAA1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30763-E2A4-4202-9637-B5023872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AA8C1-5ED3-4257-98C6-548EA88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FBB1-79DB-43B2-9FC4-782961CE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DB5-C899-493C-B5B4-B438AEB3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C5E7-AD92-403D-ABC5-37B11779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2E22-4EDD-47CE-9264-071C0BE2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2C9E-FA96-4830-AA38-B99FAC6C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9782D-4341-48C3-930F-7605793D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37F3-CC31-435A-A61C-EB69D2C7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AE91-C9FF-4F0C-919A-12D3881B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4FE5-F8F6-4341-8D94-56EE3175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BCC7-D98B-484C-8507-D82C1546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7A7A-2333-4E70-B88A-7449C16C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267A-CA63-45A6-B491-9662A560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525-D6C7-4173-843E-0FD5021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766A-8294-4BEA-B721-133C1F9D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F0CD2-C547-467C-A20D-6C367DEC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4B1B-D3AE-416D-9C37-39BC0D03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228D-1F58-49CF-AE3F-D66E556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B85-AED3-4832-A188-6379164B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0C48-E3AD-4B1B-8F53-99B9CC8F2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828800" y="76320"/>
            <a:ext cx="6934320" cy="838080"/>
            <a:chOff x="1828800" y="76320"/>
            <a:chExt cx="6934320" cy="838080"/>
          </a:xfrm>
        </p:grpSpPr>
        <p:pic>
          <p:nvPicPr>
            <p:cNvPr id="42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76320"/>
              <a:ext cx="834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7" descr=""/>
            <p:cNvPicPr/>
            <p:nvPr/>
          </p:nvPicPr>
          <p:blipFill>
            <a:blip r:embed="rId4"/>
            <a:stretch/>
          </p:blipFill>
          <p:spPr>
            <a:xfrm>
              <a:off x="5542920" y="114120"/>
              <a:ext cx="8928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8" descr=""/>
            <p:cNvPicPr/>
            <p:nvPr/>
          </p:nvPicPr>
          <p:blipFill>
            <a:blip r:embed="rId5"/>
            <a:stretch/>
          </p:blipFill>
          <p:spPr>
            <a:xfrm>
              <a:off x="4054320" y="135720"/>
              <a:ext cx="139320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"/>
            <p:cNvPicPr/>
            <p:nvPr/>
          </p:nvPicPr>
          <p:blipFill>
            <a:blip r:embed="rId6"/>
            <a:stretch/>
          </p:blipFill>
          <p:spPr>
            <a:xfrm>
              <a:off x="6669720" y="187200"/>
              <a:ext cx="209340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7"/>
            <a:stretch/>
          </p:blipFill>
          <p:spPr>
            <a:xfrm>
              <a:off x="3032280" y="91800"/>
              <a:ext cx="79956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"/>
          <p:cNvPicPr/>
          <p:nvPr/>
        </p:nvPicPr>
        <p:blipFill>
          <a:blip r:embed="rId8"/>
          <a:stretch/>
        </p:blipFill>
        <p:spPr>
          <a:xfrm>
            <a:off x="482760" y="152280"/>
            <a:ext cx="888840" cy="621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8" name="Rectangle 8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87480" y="6019920"/>
            <a:ext cx="6746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077320" y="6019920"/>
            <a:ext cx="103644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D462-2447-4D3D-8C12-072236A14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93DA-93F1-4B15-B386-2DF8AE7EF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15E3-4E83-462D-8147-854F42B38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414C-AB79-41CC-AAFC-880BF1BC2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B06F-62DF-401A-B773-49A2DCDDD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allenges in integrating Buprenorphine addiction treatment in HIV out-patient clinics in Han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7192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Lessons learnt from a clinical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uyen Bich Diep, MD,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Prof. Le Minh G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nam HIV Addiction Technology Transfer Center (VHAT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oi Medical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9200" y="533160"/>
            <a:ext cx="8247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ff allocation at research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457200" y="2057400"/>
            <a:ext cx="83818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/ Study Co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ists/ dispen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hnical Assistances from H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for new inductions (3 to 5 patients/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 for complicated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consultations via 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case consultation sessions (every 1-2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staffs meeting at sites (every 2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for new staffs and provide continuous trainings based on the need of the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esh training on medication and treatment proced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involvement/ support of family members before and during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s to improve treatment adherence and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80880" y="2357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HALLENGES IN INTEGRATION BUPRENORPHINE TREATMENT INTO HIV TREATMENT AND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llenges in Buprenorphine treat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880" y="1599840"/>
            <a:ext cx="83822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edication -&gt; patients do not have sufficient information and trust in treatment 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ies in medication induction due to required withdrawal syndrome and take home dosing are not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cation is administrated and dissolved under the tongu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 longer time to dissolve, some patients do not like the taste of the 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likely to dropout because of not feeling high on her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efficient intervention procedures for co-morbidities, especially mental health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have long-term treatment option (in pres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referral system for Buprenorphine treatment (when patients need to travel outside their lo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4157640" y="633096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allenges in integrating with ARV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457200" y="1604880"/>
            <a:ext cx="838188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the perspective of medical staf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responsibilities, cannot provide fulltime attendance and lack of time resource to support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dequate training and lack of experience in addiction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judgments on drug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qualified buprenorphine sto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 personnel to monitor the medication administration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ystematic training program/ training schedule supported by PAC/VA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ies in implementing behavioral interven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of after- hour (weekend, public holiday) working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hallenges in integrating with ARV trea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75248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patient persp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hesitate to OPC settings (less drug us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 of drug use and/or HIV status disclo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distance to clinics, difficulties in trav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HIV out-patient clinic administrativ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38040" y="16081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Dispatch No.9293/BYT-AIDS dated 27/11/2015 by Ministry of Health in HIV/AIDS treatment and care clinic set up and health insurance coverage for HIV/AIDS patients:  moving HIV treatment and care clinics toward health insurance cove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 Dispatch No. 87/AIDS-DTr dated 21/2/2017 by Vietnam AIDS Administration and Control on setting up treatment clinics with capacity of HIV/AIDS treatment and care covered by health insurance in central cities and provi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allocation: Doctors with license, no vacancy for counsel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workload for doctors and dosing sta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s in clinical monitoring and research administration during changing OPC administrative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exchange, clinical staff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HIV out-patient clinic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iv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Content Placeholder 6" descr="dog-with-brown-paper-bag-thankyou.png"/>
          <p:cNvPicPr/>
          <p:nvPr/>
        </p:nvPicPr>
        <p:blipFill>
          <a:blip r:embed="rId1"/>
          <a:stretch/>
        </p:blipFill>
        <p:spPr>
          <a:xfrm>
            <a:off x="1676520" y="914400"/>
            <a:ext cx="5751360" cy="5156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23880"/>
            <a:ext cx="830592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700" spc="-1" strike="noStrike">
                <a:solidFill>
                  <a:srgbClr val="000000"/>
                </a:solidFill>
                <a:latin typeface="Arial"/>
              </a:rPr>
              <a:t>Injecting opioids and HIV infe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n HIV transmission route in Vietnam</a:t>
            </a:r>
            <a:r>
              <a:rPr b="0" lang="vi-VN" sz="1700" spc="-1" strike="noStrike" baseline="30000">
                <a:solidFill>
                  <a:srgbClr val="000000"/>
                </a:solidFill>
                <a:latin typeface="Arial"/>
              </a:rPr>
              <a:t>1,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 the ability to access HIV servces</a:t>
            </a:r>
            <a:r>
              <a:rPr b="0" lang="vi-VN" sz="1700" spc="-1" strike="noStrike" baseline="30000">
                <a:solidFill>
                  <a:srgbClr val="000000"/>
                </a:solidFill>
                <a:latin typeface="Arial"/>
              </a:rPr>
              <a:t>3-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gative impact on enrollment in and adherence to HIV treatment</a:t>
            </a:r>
            <a:r>
              <a:rPr b="0" lang="vi-VN" sz="17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nefits of integrating opiate addiction treatment for HIV/AIDS patients 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rease enrollment in treatment of AIDS patie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 opioid use in patie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duce risk behaviors related to injection drugs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duce HIV transmi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thadone maintenance treatment have been implemented and scaled up in Vietnam since 2008, however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llenges in treatment adherence (daily dosing, no take home dos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mited numbers of MMT clinics due to expensive facility constru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igma, older patients, treatment fee, payment mechanisms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6-8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mand for diversification of opiate addiction treatment mode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25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1371600" y="6303960"/>
            <a:ext cx="67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Nguyễn et al  ADDICTION 2008; 2.Strathdee et al  LANCET 2010; 3. Garder et al CLIN.INF.DIS 2011; 4. Lucas et al J.AIDS 2001; 5. Wood et al JAMA 2008; 6. Friedmann et al J.SAT 2001; 7. Deering et al ADDIC.BEH 2011; 8. Lin et al J.SUM 2011; 9. Bich Diep Nguyen et al Journal of Substance Abuse Treatment 201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9840" y="456840"/>
            <a:ext cx="833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84582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To compare the effectiveness of two medication assisted opioid addiction treatment models </a:t>
            </a:r>
            <a:r>
              <a:rPr b="0" lang="mr-IN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HIV clinic-based BUP/NX and MMT referral </a:t>
            </a:r>
            <a:r>
              <a:rPr b="0" lang="mr-IN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vi-VN" sz="2200" spc="-1" strike="noStrike">
                <a:solidFill>
                  <a:srgbClr val="000000"/>
                </a:solidFill>
                <a:latin typeface="Arial"/>
              </a:rPr>
              <a:t> on addiction and HIV treatment outcomes in HIV infected patients with opioid depend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 objectiv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ssess effect of the two models on HIV  treatment engagement, adherence and viral load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 objective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ess effect of the two models on opioid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ific objective 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sess BUP/NX implementation experience to inform national scale-up of clinic based BUP/N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77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2880" y="1676520"/>
            <a:ext cx="8645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y 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ized controlled trial, mixed-method (quantitative and qual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 HIV out-patient clinics in Hanoi (Hoang Mai, Dong Da, Nam Tu Liem and Long B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015 – 9/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process: 3/2015 – 9/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process: 9/2015 – 10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process: 10/2017 – 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alysis and report writing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2018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udy Sch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33520" y="1676520"/>
            <a:ext cx="8381880" cy="4341240"/>
            <a:chOff x="533520" y="1676520"/>
            <a:chExt cx="8381880" cy="4341240"/>
          </a:xfrm>
        </p:grpSpPr>
        <p:sp>
          <p:nvSpPr>
            <p:cNvPr id="273" name="Rectangle 6"/>
            <p:cNvSpPr/>
            <p:nvPr/>
          </p:nvSpPr>
          <p:spPr>
            <a:xfrm>
              <a:off x="533520" y="2804760"/>
              <a:ext cx="1110960" cy="140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vider and staff 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5"/>
            <p:cNvSpPr/>
            <p:nvPr/>
          </p:nvSpPr>
          <p:spPr>
            <a:xfrm>
              <a:off x="6218640" y="1676520"/>
              <a:ext cx="2696760" cy="434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Calibri"/>
                </a:rPr>
                <a:t>Primary Outcome(12 month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IV Viral Suppression (Specific objecitve 1)</a:t>
              </a: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ARV receipt (Specific objecitve 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etention in HIV care (Specific objecitve 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eroin Use (Specific objecitve 2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valuation of treatment model’s implementation</a:t>
              </a:r>
              <a:r>
                <a:rPr b="0" lang="en-A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(Specific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objecitve</a:t>
              </a:r>
              <a:r>
                <a:rPr b="0" lang="en-AU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 3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4979520" y="1922400"/>
              <a:ext cx="897120" cy="11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P/N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n=22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0"/>
            <p:cNvSpPr/>
            <p:nvPr/>
          </p:nvSpPr>
          <p:spPr>
            <a:xfrm>
              <a:off x="1892160" y="2818440"/>
              <a:ext cx="1220760" cy="149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ubject screening, recrui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39"/>
            <p:cNvCxnSpPr/>
            <p:nvPr/>
          </p:nvCxnSpPr>
          <p:spPr>
            <a:xfrm>
              <a:off x="1657800" y="3528000"/>
              <a:ext cx="317880" cy="216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8" name="Rectangle 11"/>
            <p:cNvSpPr/>
            <p:nvPr/>
          </p:nvSpPr>
          <p:spPr>
            <a:xfrm>
              <a:off x="4951440" y="3713040"/>
              <a:ext cx="925560" cy="146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eferral for M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(n=225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3359880" y="3143880"/>
              <a:ext cx="1249920" cy="79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Randomiz-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127"/>
            <p:cNvCxnSpPr/>
            <p:nvPr/>
          </p:nvCxnSpPr>
          <p:spPr>
            <a:xfrm>
              <a:off x="3107160" y="3557160"/>
              <a:ext cx="26712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132"/>
            <p:cNvCxnSpPr/>
            <p:nvPr/>
          </p:nvCxnSpPr>
          <p:spPr>
            <a:xfrm>
              <a:off x="5876640" y="2463840"/>
              <a:ext cx="35532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2" name="AutoShape 15"/>
            <p:cNvCxnSpPr/>
            <p:nvPr/>
          </p:nvCxnSpPr>
          <p:spPr>
            <a:xfrm flipV="1">
              <a:off x="4609440" y="2464200"/>
              <a:ext cx="371160" cy="10933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3" name="AutoShape 16"/>
            <p:cNvCxnSpPr/>
            <p:nvPr/>
          </p:nvCxnSpPr>
          <p:spPr>
            <a:xfrm>
              <a:off x="4609440" y="3557520"/>
              <a:ext cx="371160" cy="9439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4" name="AutoShape 17"/>
            <p:cNvCxnSpPr/>
            <p:nvPr/>
          </p:nvCxnSpPr>
          <p:spPr>
            <a:xfrm>
              <a:off x="5862600" y="4413960"/>
              <a:ext cx="35604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</p:grp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3886200" y="6281640"/>
            <a:ext cx="1133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19040" y="1681200"/>
            <a:ext cx="8305920" cy="50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at least 18 years ol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 posi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moderate or severe DSM-5 opioid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urine test for drug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ed in receiving treatment for opioid 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practice effective method of birth control, if fem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lus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4308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 or ALT &gt; 5x upper limit of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pregnant or breastf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medical or psychiatric illness in past 30 day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might influence  participant safety in the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methadone maintenance treatment within 3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hypersensitivity to buprenorphine or nalox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57200" y="1981080"/>
          <a:ext cx="8229600" cy="3861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463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 number of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 number of patients randomized in BUP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patients dischar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patients currently under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oang M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ong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u L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ng B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 recruitment and maintain in treatment</a:t>
            </a:r>
            <a:br>
              <a:rPr sz="26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As of end of July, 2017)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152280" y="236232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LESSONS LEARNT FROM IMPLEMENTING AN INTEGRATION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g Nguyen</dc:creator>
  <dc:description/>
  <dc:language>en-US</dc:language>
  <cp:lastModifiedBy>DCOM</cp:lastModifiedBy>
  <dcterms:modified xsi:type="dcterms:W3CDTF">2017-08-02T02:56:11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