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9910-3D03-4081-B43C-6E83571B60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C: L amygdala, L hippocampus, R precentral; R temporal, L OFC; Precunues: R midbrain and cerebellum </a:t>
            </a:r>
            <a:endParaRPr b="0" lang="en-US" sz="1200" spc="-1" strike="noStrike">
              <a:solidFill>
                <a:srgbClr val="000000"/>
              </a:solidFill>
              <a:latin typeface="Arial"/>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E2A6-380F-4943-B5BD-890C1C6231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C: L amygdala, L hippocampus, R precentral; R temporal, L OFC; Precunues: R midbrain and cerebellum </a:t>
            </a:r>
            <a:endParaRPr b="0" lang="en-US" sz="1200" spc="-1" strike="noStrike">
              <a:solidFill>
                <a:srgbClr val="000000"/>
              </a:solidFill>
              <a:latin typeface="Arial"/>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A6BD-CC0E-4186-A89A-D5E46049F2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62EE-054A-44AD-A9EF-0DFAA13EC6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sychostimulant. Looks like manic episode. Nasal passage damage, risk infection hep C or HIV</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8560-B58E-4DD9-A1A4-6071CC93BD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A429-8BA4-4E27-9CE0-D624E81F4E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rching goal to protect oneself from anxiety from self-identification as “out of control”, worthless addi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C06B-CC7B-40A5-8301-95A3412BA6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37B0-7B38-405B-9EE5-5233052EE7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go/no-go task with two inhibit conditions (repeat word or stroop color violation). Pressed button twice on next go trial to indicate error awarene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 Radioactive tracer into blood flow, emits gamma rays when goes into tissue. More blood flow to regions with greater metabolic demand. </a:t>
            </a:r>
            <a:endParaRPr b="0" lang="en-US" sz="1200" spc="-1" strike="noStrike">
              <a:solidFill>
                <a:srgbClr val="000000"/>
              </a:solidFill>
              <a:latin typeface="Arial"/>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5D8A-3618-4F43-ACC0-C1E87828A0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069A5-639B-4C14-AF4B-0E2A0B0D5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1A51B-F2A5-46AD-8E4F-95AB350E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3BF0AE-FE09-4B8F-97A0-8A441E85E7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8BBABE-DD7A-4680-A249-A77E0D3B3A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2BE7B0-BECD-4E84-97CE-F33B8AA82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211A7-592B-4949-A050-0277C5967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B8A47-2EAE-4BD7-9EA4-CBD738D06E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99686-1A10-4477-930F-34B94D0B10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26EB46-398E-4056-B9D5-4EAA6B133A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70A6C0-EF80-4063-8DAA-5ED73176DB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DCEC71-C6C5-4CCB-A83C-5D1DA6CB03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9D370F-1F3F-4FFF-8A13-77C8D1983E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41FBC-C692-42E7-8845-F58BC2538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1FD003-3A32-49E0-A86D-92A34F67A4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682C41-678F-4D56-AEEA-C810F6B0AF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0C4C76-96E5-4B21-801F-D40958C626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FE5B3D-5427-418A-9287-9F1417BD59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5C811E-5D10-4447-B251-1B7D6DCDC0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7E1609-7D96-4F80-AEB8-D7E09EF748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32EF89-D7D2-4A0E-8B07-03A3A89D02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349455-6644-403F-9DF7-8A795CAB19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8E603A-5E0F-438D-B91A-305874103C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A87284-1E45-4E67-9E07-A442ADB319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EADA8-10CF-40D7-9D1F-B56BF1708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66E636-A382-4F00-B78D-D2BB4DDEA3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7D9104-62EC-47E0-B43C-9D696435EC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F34A11-917F-4548-933C-636AC9E099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C05F0C-B2A0-4ABC-870B-C625CA74DE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B0418B-E10C-4B38-A4AE-75C9234359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AA05AC-8969-4A16-B4F7-ED41A5F491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3CB410-71E3-4659-A544-16F91C9612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7E2D55-3508-45CC-83B8-3A68D9364E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4EAEC9-2F12-4827-8E80-80DBB66424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C5EB33-CB7E-4D40-ABC0-224E437D76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7EEFD-BE2C-4272-B575-EF197F119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E7BC27-5E95-4996-ADFA-58B574F06C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FA4EEE-C144-4CA4-A5ED-76F41E15C0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650B53-796B-4267-816A-F0EDBFEDD3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890D59-7B99-4CF8-A9A9-CAA50486FC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2BD4FC-10B4-4DA8-99AA-768ABB8AF7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0D7736-54D3-4F3F-8FEA-FDF736AA92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3E5E3D-FDF6-465B-A1A5-2CB07DD3B8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BB0022-CAF3-434F-80E1-034C8DBA67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7F43D0-0A03-4814-8D8E-C72970DB13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0AEF2B-7A32-4F62-99B0-7D51048ADC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71707-22E2-456C-BB89-1E456C353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913DE7-7E2E-49A9-B5DD-6FEFD9AD16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4D96D3-7737-48F8-AB82-8EB7BFB0E8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859F08-557C-4186-845A-530433BC07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8A91DD-059D-4A5E-81AE-28A2E74C8E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AED4AD-C8F1-49DE-87A5-10657B616B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24C7EE-FCE9-44A7-BB9F-5F10FA289FE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6E6265-8EC8-4ED8-8536-84A744E1B5F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A854EB-7F83-4F96-93A3-16D18BAE31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9D94BA-7746-4EDB-BD21-332CA7B599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D509D1-33A0-4174-A20A-2CCC16023E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2F84E-5831-4402-9BC6-FB59CB73C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F64E01-DFB0-46B3-8FFB-830EA227F9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D6CE56-8903-4B8E-886D-E0FE735EA1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13EED9-BC00-4FAB-AE94-66CA0CD361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AADB05-66D4-4F84-A71F-258914E130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E50636-86D1-4EAC-B79A-4658D51189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AEB839C-0F74-4D4F-8777-7107FFA887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A8EA20-C134-4EEB-B04B-BE43B61208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0D38D-8865-4E15-80F9-A63329768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4951C-3E3E-4024-ACF8-4F844345C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E5161-2911-4B37-AFA8-7D2940F2B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8BDB9-8941-4B97-B3BC-AC3687AA5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A8851-A0A8-4F33-BC2D-5A582C99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18F7C-121A-4F32-B2DB-BAD0EA03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1130B-9208-4740-9CA1-15DA82F0A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4A5C3-A043-44A7-97E6-5E6278E5F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EA9A0-AD71-4DD0-8646-B4491557D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A3CA0-B7D8-4AFD-8E86-FB3C9C10D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BF1177-2F48-4A65-8E8F-47BFF24EFC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16588-91F9-4A2E-83FB-592E2C6EB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E4C92C-8493-45F1-8084-C90899536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C6C852-CBE3-4588-A3BF-096133AD2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B137C-3A5E-4F42-B109-3E806089B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DD9E0-07D3-421F-8874-26DBE3E35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3B620-818A-4BA7-9A55-4C713B997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CE798-EAD7-489B-858C-25C3D7023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53C19-DA97-44E1-A7F6-68DB5E423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3EE75-ACAA-4D6E-AF47-138662BBE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1474EF-9D96-4D7A-ADEE-7D974169A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E3BB8F-976C-4E43-B37F-2D5943698B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130B5B-9700-4104-A456-1A9A892445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069EF-C38D-4F30-9A97-74366B3BA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27B5D-4EE7-413B-8205-0A54309D4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27ECC-83F6-4F7E-B55B-41C375C22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E0C80-5826-47FF-96B1-12601928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A1AA7-8B43-4609-AC36-304DFCCC2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80942-90D2-4F1F-8BD4-A7A581C7A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38AD6-1E19-477D-9077-59BA06ADF9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00A6A-82D2-4C34-926B-D84BD93BF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7F6F8-6DA9-402B-A6AE-F8FD1FFE9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F7AEF-2F2D-42E1-9EF9-450BED5C6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33FDD-989E-410D-BDCE-AE68A088D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2010C-0081-4378-89DC-EFBD708A30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8934D1-4460-4EC1-938C-BDCCC97FE1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62FEA8-5101-4777-AA79-A860B97D34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D3AFE-9AA4-409D-A41C-4A82F193A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1348F3-353D-41E2-B533-667294363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9CFA5-2E02-4D59-856A-995B4088B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57328-8649-4C49-9F33-4FC03FC10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41F1B8-2222-42CF-B675-49A209245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0638ED-3074-470D-95B9-12E31CBE3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FA9F4-4E7F-41C5-A3D4-38046BA46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69004-13C4-4D38-A6F8-5DA04040E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CEC94-6398-4807-AD09-730B1FD85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2429D-D336-44B6-B47F-35199D0A1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31E60F-7855-4181-AC69-5234CEAD94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A97D-F74E-48EC-8EE9-86311B8A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A759E8-FBD8-43ED-AD72-5EBEFD3A2A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246A9C-651C-4133-B405-144FBD6822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B056D-7F35-4607-8F95-A46E6FB80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72E2A-9D3E-42B3-8760-7C703AC742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225B74-D547-4CB9-A3D9-60489FB46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DE41F-E304-49CE-9E2A-9EE8D20F8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CC59C-1E50-4A91-AD84-34278DDA7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93EFC-8D03-4C82-B721-0F63D707D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D0875-F9A1-458F-AAAB-2FB1B1230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6FC7A-BE4C-4883-8DC7-AA5CE3248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588D-C728-4413-B26E-AE9DC5481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D7AB6E-89B9-4A43-96F1-C2FEADFBF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F4F0CC-D4C6-4E2E-B6BF-7F08097F0B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4EA3E-CF66-44C6-ACB4-6D2024A937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55B47B-C099-4D42-9B20-12B9B564C6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5DA9BE-BFD7-44D7-8D7D-6123478E20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64AB7-05BA-41E4-979F-CDEA625A6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1D34D-79EA-4FEE-A9A0-FD7069B64F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F698C-F0FA-4565-A420-F6AED7543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EA739-5E3D-43D6-938D-CC9C5F696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69C4A-27D0-4C3E-82AD-00A3EE71A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B6747-EC11-4905-A93B-4992EA25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FA59C-AB0E-45EE-9639-850342A91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DB6E4-3F83-457F-8FF7-F1ED197ABE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BE2BFE-A943-47DB-AA38-7102316959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7F89FC-1C59-4C7A-8830-C96D750CD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CCFFB3-B2E5-464A-8392-B9CBF64024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9F5630-1197-46F8-A57A-7AD8364B86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48821-9703-414C-B375-07E437CF25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D73E98-3884-42E2-9305-36EC7F0997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59F3B-660D-40EC-A7F6-3254F4A3C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0291BD-007B-4C10-9BC8-769D478613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1AC94-AC30-435A-8022-8EC387EE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845EB-B913-420D-83EC-D306EAEA2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B87CD-C433-4E61-9895-4C25D568D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FCE10-A1B1-4651-99EB-FD81AD6BF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B0BAE-F286-409E-A820-E52F8DB5D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DF6419-4CF4-4A82-80D8-47A1A176C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9BD310-9D17-4A6E-AB5C-08DA306FFD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D94444-D1B2-4E13-A0D3-0AFF79206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C84436-6AA7-43F4-9DC1-A5A4746769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F7AB3-590D-4BAA-BF84-711A0D79D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62BFB8-6718-4B61-AB4D-917B0BE649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4225-D702-43C0-8753-F9C8B757B9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68" name="Group 8"/>
          <p:cNvGrpSpPr/>
          <p:nvPr/>
        </p:nvGrpSpPr>
        <p:grpSpPr>
          <a:xfrm>
            <a:off x="8153280" y="152280"/>
            <a:ext cx="792000" cy="1295280"/>
            <a:chOff x="8153280" y="152280"/>
            <a:chExt cx="792000" cy="1295280"/>
          </a:xfrm>
        </p:grpSpPr>
        <p:sp>
          <p:nvSpPr>
            <p:cNvPr id="66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0"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1"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3"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4"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7"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8"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0"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2"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3"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4"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6"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7"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8"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1"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2"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4"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5"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6"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7"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8"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9"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0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02"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4"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1C34-78B2-4FAC-AF94-E032A3906A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742" name="Group 8"/>
          <p:cNvGrpSpPr/>
          <p:nvPr/>
        </p:nvGrpSpPr>
        <p:grpSpPr>
          <a:xfrm>
            <a:off x="8153280" y="152280"/>
            <a:ext cx="792000" cy="1295280"/>
            <a:chOff x="8153280" y="152280"/>
            <a:chExt cx="792000" cy="1295280"/>
          </a:xfrm>
        </p:grpSpPr>
        <p:sp>
          <p:nvSpPr>
            <p:cNvPr id="74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5"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8"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9"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1"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2"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3"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4"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6"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7"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0"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1"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2"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4"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5"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6"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7"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8"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9"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0"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2"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3"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7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A4EE-38FF-428F-BD81-4E33C04F999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816" name="Group 8"/>
          <p:cNvGrpSpPr/>
          <p:nvPr/>
        </p:nvGrpSpPr>
        <p:grpSpPr>
          <a:xfrm>
            <a:off x="8153280" y="152280"/>
            <a:ext cx="792000" cy="1295280"/>
            <a:chOff x="8153280" y="152280"/>
            <a:chExt cx="792000" cy="1295280"/>
          </a:xfrm>
        </p:grpSpPr>
        <p:sp>
          <p:nvSpPr>
            <p:cNvPr id="81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4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5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52F3-9DDC-4565-9C1E-2EACC4B603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890" name="Group 8"/>
          <p:cNvGrpSpPr/>
          <p:nvPr/>
        </p:nvGrpSpPr>
        <p:grpSpPr>
          <a:xfrm>
            <a:off x="8153280" y="152280"/>
            <a:ext cx="792000" cy="1295280"/>
            <a:chOff x="8153280" y="152280"/>
            <a:chExt cx="792000" cy="1295280"/>
          </a:xfrm>
        </p:grpSpPr>
        <p:sp>
          <p:nvSpPr>
            <p:cNvPr id="89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2"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3"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4"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6"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7"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9"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2"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5"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6"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8"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9"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2"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4"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7"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8"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0"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1"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2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4" name="PlaceHolder 3"/>
          <p:cNvSpPr>
            <a:spLocks noGrp="1"/>
          </p:cNvSpPr>
          <p:nvPr>
            <p:ph type="dt" idx="37"/>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6"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7247-1B0C-4CFC-83C3-512B6F9FF7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CDC7-96E5-4C33-B638-AE58F7C6619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50" name="Group 8"/>
          <p:cNvGrpSpPr/>
          <p:nvPr/>
        </p:nvGrpSpPr>
        <p:grpSpPr>
          <a:xfrm>
            <a:off x="8153280" y="152280"/>
            <a:ext cx="792000" cy="1295280"/>
            <a:chOff x="8153280" y="152280"/>
            <a:chExt cx="792000" cy="1295280"/>
          </a:xfrm>
        </p:grpSpPr>
        <p:sp>
          <p:nvSpPr>
            <p:cNvPr id="15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76FD-5308-4EE1-8CA4-49BD946CDD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24" name="Group 8"/>
          <p:cNvGrpSpPr/>
          <p:nvPr/>
        </p:nvGrpSpPr>
        <p:grpSpPr>
          <a:xfrm>
            <a:off x="8153280" y="152280"/>
            <a:ext cx="792000" cy="1295280"/>
            <a:chOff x="8153280" y="152280"/>
            <a:chExt cx="792000" cy="1295280"/>
          </a:xfrm>
        </p:grpSpPr>
        <p:sp>
          <p:nvSpPr>
            <p:cNvPr id="22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5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12D8-F191-4803-ADF3-8D992E3520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98" name="Group 8"/>
          <p:cNvGrpSpPr/>
          <p:nvPr/>
        </p:nvGrpSpPr>
        <p:grpSpPr>
          <a:xfrm>
            <a:off x="8153280" y="152280"/>
            <a:ext cx="792000" cy="1295280"/>
            <a:chOff x="8153280" y="152280"/>
            <a:chExt cx="792000" cy="1295280"/>
          </a:xfrm>
        </p:grpSpPr>
        <p:sp>
          <p:nvSpPr>
            <p:cNvPr id="29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2"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3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A0CD-189A-4635-A6AB-E41CB6E1AB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72" name="Group 8"/>
          <p:cNvGrpSpPr/>
          <p:nvPr/>
        </p:nvGrpSpPr>
        <p:grpSpPr>
          <a:xfrm>
            <a:off x="8153280" y="152280"/>
            <a:ext cx="792000" cy="1295280"/>
            <a:chOff x="8153280" y="152280"/>
            <a:chExt cx="792000" cy="1295280"/>
          </a:xfrm>
        </p:grpSpPr>
        <p:sp>
          <p:nvSpPr>
            <p:cNvPr id="37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8"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0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6"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C054-DFDE-48CF-B9B5-D7FD558869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46" name="Group 8"/>
          <p:cNvGrpSpPr/>
          <p:nvPr/>
        </p:nvGrpSpPr>
        <p:grpSpPr>
          <a:xfrm>
            <a:off x="8153280" y="152280"/>
            <a:ext cx="792000" cy="1295280"/>
            <a:chOff x="8153280" y="152280"/>
            <a:chExt cx="792000" cy="1295280"/>
          </a:xfrm>
        </p:grpSpPr>
        <p:sp>
          <p:nvSpPr>
            <p:cNvPr id="44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D9BE-21C3-4698-9605-1D6902F007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20" name="Group 8"/>
          <p:cNvGrpSpPr/>
          <p:nvPr/>
        </p:nvGrpSpPr>
        <p:grpSpPr>
          <a:xfrm>
            <a:off x="8153280" y="152280"/>
            <a:ext cx="792000" cy="1295280"/>
            <a:chOff x="8153280" y="152280"/>
            <a:chExt cx="792000" cy="1295280"/>
          </a:xfrm>
        </p:grpSpPr>
        <p:sp>
          <p:nvSpPr>
            <p:cNvPr id="52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3"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4"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7"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8"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9"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0"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1"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4"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5"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6"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8"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9"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2"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4"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5"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7"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8"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9"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0"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5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2B70-D755-4F7E-8C56-3AD5AE4AA6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94" name="Group 8"/>
          <p:cNvGrpSpPr/>
          <p:nvPr/>
        </p:nvGrpSpPr>
        <p:grpSpPr>
          <a:xfrm>
            <a:off x="8153280" y="152280"/>
            <a:ext cx="792000" cy="1295280"/>
            <a:chOff x="8153280" y="152280"/>
            <a:chExt cx="792000" cy="1295280"/>
          </a:xfrm>
        </p:grpSpPr>
        <p:sp>
          <p:nvSpPr>
            <p:cNvPr id="59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7"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9"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0"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1"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2"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3"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5"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6"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9"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8"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0"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1"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2"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3"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2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2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10AE-967E-4862-A4FD-935AA8665B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04560" y="380520"/>
            <a:ext cx="8839080" cy="1832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Yếu tố thần kinh và chức năng nhận thức trong sự phủ nhận ở người sử dụng methamphetamine</a:t>
            </a:r>
            <a:endParaRPr b="1" lang="en-US" sz="4000" spc="-1" strike="noStrike">
              <a:solidFill>
                <a:srgbClr val="330066"/>
              </a:solidFill>
              <a:latin typeface="Arial"/>
            </a:endParaRPr>
          </a:p>
        </p:txBody>
      </p:sp>
      <p:sp>
        <p:nvSpPr>
          <p:cNvPr id="971" name="PlaceHolder 2"/>
          <p:cNvSpPr>
            <a:spLocks noGrp="1"/>
          </p:cNvSpPr>
          <p:nvPr>
            <p:ph type="subTitle"/>
          </p:nvPr>
        </p:nvSpPr>
        <p:spPr>
          <a:xfrm>
            <a:off x="380880" y="3049560"/>
            <a:ext cx="6716880" cy="26654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 Andy Dean, </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Hội Tâm lí học thần kinh lâm sàng Hoa Kỳ </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ó Giáo sư Lâm sàng</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òng nghiên cứu Hình ảnh học thần kinh Phân tử/Chương trình lạm dụng chất lồng ghép </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ại học California Los Angeles</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ộ test chức năng nhận thức</a:t>
            </a:r>
            <a:endParaRPr b="1" lang="en-US" sz="3900" spc="-1" strike="noStrike">
              <a:solidFill>
                <a:srgbClr val="330066"/>
              </a:solidFill>
              <a:latin typeface="Arial"/>
            </a:endParaRPr>
          </a:p>
        </p:txBody>
      </p:sp>
      <p:sp>
        <p:nvSpPr>
          <p:cNvPr id="1000" name="PlaceHolder 2"/>
          <p:cNvSpPr>
            <a:spLocks noGrp="1"/>
          </p:cNvSpPr>
          <p:nvPr>
            <p:ph/>
          </p:nvPr>
        </p:nvSpPr>
        <p:spPr>
          <a:xfrm>
            <a:off x="304920" y="1676160"/>
            <a:ext cx="815328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g đo chức năng nhận thức tổng quá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ốc độ xử lý/Chú ý</a:t>
            </a:r>
            <a:r>
              <a:rPr b="0" lang="en-US" sz="1800" spc="-1" strike="noStrike">
                <a:solidFill>
                  <a:srgbClr val="000000"/>
                </a:solidFill>
                <a:latin typeface="Arial"/>
              </a:rPr>
              <a:t>: </a:t>
            </a:r>
            <a:endParaRPr b="0" lang="en-US" sz="18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ài kiểm tra nối dãy số - chữ phần A (Trial-making Test – Trails A)</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ệu ứng Stroop trên từ ngữ và màu sắc</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ã hóa số - ký hiệu</a:t>
            </a:r>
            <a:endParaRPr b="0" lang="en-US" sz="15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í nhớ làm việc</a:t>
            </a:r>
            <a:r>
              <a:rPr b="0" lang="en-US" sz="1800" spc="-1" strike="noStrike">
                <a:solidFill>
                  <a:srgbClr val="000000"/>
                </a:solidFill>
                <a:latin typeface="Arial"/>
              </a:rPr>
              <a:t>: </a:t>
            </a:r>
            <a:endParaRPr b="0" lang="en-US" sz="18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Đọc ngược chuỗi chữ số</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Đọc chuỗi chữ số thiếu</a:t>
            </a:r>
            <a:endParaRPr b="0" lang="en-US" sz="15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ọc tập/trí nhớ</a:t>
            </a:r>
            <a:r>
              <a:rPr b="0" lang="en-US" sz="1800" spc="-1" strike="noStrike">
                <a:solidFill>
                  <a:srgbClr val="000000"/>
                </a:solidFill>
                <a:latin typeface="Arial"/>
              </a:rPr>
              <a:t>: </a:t>
            </a:r>
            <a:endParaRPr b="0" lang="en-US" sz="18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nhắc lại chọn lọc </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trí nhớ lặp lại (hình ảnh)</a:t>
            </a:r>
            <a:endParaRPr b="0" lang="en-US" sz="15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ức năng điều hành: </a:t>
            </a:r>
            <a:endParaRPr b="0" lang="en-US" sz="18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gôn trừ trôi chảy</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ấn đề logic</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ọc cách phân biệt phản ứng</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ài kiếm tra nối dãy số - chữ phần B (Trial-making Test – Trails B)</a:t>
            </a:r>
            <a:endParaRPr b="0" lang="en-US" sz="1500" spc="-1" strike="noStrike">
              <a:solidFill>
                <a:srgbClr val="000000"/>
              </a:solidFill>
              <a:latin typeface="Arial"/>
            </a:endParaRPr>
          </a:p>
          <a:p>
            <a:pPr lvl="2" marL="987480" indent="-293760">
              <a:lnSpc>
                <a:spcPct val="80000"/>
              </a:lnSpc>
              <a:spcBef>
                <a:spcPts val="37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ệu ứng Stroop trên từ ngữ và màu sắc</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1" name="Text Box 4"/>
          <p:cNvSpPr/>
          <p:nvPr/>
        </p:nvSpPr>
        <p:spPr>
          <a:xfrm>
            <a:off x="6705720" y="3009960"/>
            <a:ext cx="1996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2" name="Text Box 5"/>
          <p:cNvSpPr/>
          <p:nvPr/>
        </p:nvSpPr>
        <p:spPr>
          <a:xfrm>
            <a:off x="6400800" y="48769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m khảo Dean và cộng sự, 20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12240" y="678960"/>
            <a:ext cx="4565880" cy="117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ết nối MRI chức năng ở trạng thái nghỉ</a:t>
            </a:r>
            <a:endParaRPr b="1" lang="en-US" sz="3500" spc="-1" strike="noStrike">
              <a:solidFill>
                <a:srgbClr val="330066"/>
              </a:solidFill>
              <a:latin typeface="Arial"/>
            </a:endParaRPr>
          </a:p>
        </p:txBody>
      </p:sp>
      <p:sp>
        <p:nvSpPr>
          <p:cNvPr id="1004" name=""/>
          <p:cNvSpPr txBox="1"/>
          <p:nvPr/>
        </p:nvSpPr>
        <p:spPr>
          <a:xfrm>
            <a:off x="-360" y="1295280"/>
            <a:ext cx="4876920" cy="15703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05" name="Picture 2" descr="http://c431376.r76.cf2.rackcdn.com/16094/fpsyt-02-00073-HTML/image_m/fpsyt-02-00073-g002.jpg"/>
          <p:cNvPicPr/>
          <p:nvPr/>
        </p:nvPicPr>
        <p:blipFill>
          <a:blip r:embed="rId1"/>
          <a:srcRect l="691" t="3615" r="1362" b="71092"/>
          <a:stretch/>
        </p:blipFill>
        <p:spPr>
          <a:xfrm>
            <a:off x="154080" y="2735280"/>
            <a:ext cx="8778960" cy="2338200"/>
          </a:xfrm>
          <a:prstGeom prst="rect">
            <a:avLst/>
          </a:prstGeom>
          <a:ln w="0">
            <a:noFill/>
          </a:ln>
        </p:spPr>
      </p:pic>
      <p:sp>
        <p:nvSpPr>
          <p:cNvPr id="1006" name="TextBox 3"/>
          <p:cNvSpPr/>
          <p:nvPr/>
        </p:nvSpPr>
        <p:spPr>
          <a:xfrm>
            <a:off x="2590920" y="49528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tương quan (mỗi vùng não bộ)</a:t>
            </a:r>
            <a:endParaRPr b="0" lang="en-US" sz="2000" spc="-1" strike="noStrike">
              <a:solidFill>
                <a:srgbClr val="000000"/>
              </a:solidFill>
              <a:latin typeface="Times New Roman"/>
            </a:endParaRPr>
          </a:p>
        </p:txBody>
      </p:sp>
      <p:sp>
        <p:nvSpPr>
          <p:cNvPr id="1007" name="TextBox 5"/>
          <p:cNvSpPr/>
          <p:nvPr/>
        </p:nvSpPr>
        <p:spPr>
          <a:xfrm>
            <a:off x="533520" y="2133720"/>
            <a:ext cx="2057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ạt động của Hồi trước chêm</a:t>
            </a:r>
            <a:endParaRPr b="0" lang="en-US" sz="2000" spc="-1" strike="noStrike">
              <a:solidFill>
                <a:srgbClr val="000000"/>
              </a:solidFill>
              <a:latin typeface="Times New Roman"/>
            </a:endParaRPr>
          </a:p>
        </p:txBody>
      </p:sp>
      <p:sp>
        <p:nvSpPr>
          <p:cNvPr id="1008" name="TextBox 8"/>
          <p:cNvSpPr/>
          <p:nvPr/>
        </p:nvSpPr>
        <p:spPr>
          <a:xfrm>
            <a:off x="6629400" y="2057400"/>
            <a:ext cx="215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ạt động của các vùng khác</a:t>
            </a:r>
            <a:endParaRPr b="0" lang="en-US" sz="2000" spc="-1" strike="noStrike">
              <a:solidFill>
                <a:srgbClr val="000000"/>
              </a:solidFill>
              <a:latin typeface="Times New Roman"/>
            </a:endParaRPr>
          </a:p>
        </p:txBody>
      </p:sp>
      <p:sp>
        <p:nvSpPr>
          <p:cNvPr id="1009" name="Content Placeholder 2"/>
          <p:cNvSpPr/>
          <p:nvPr/>
        </p:nvSpPr>
        <p:spPr>
          <a:xfrm>
            <a:off x="109440" y="5486400"/>
            <a:ext cx="8229600" cy="1066680"/>
          </a:xfrm>
          <a:prstGeom prst="rect">
            <a:avLst/>
          </a:prstGeom>
          <a:noFill/>
          <a:ln w="0">
            <a:noFill/>
          </a:ln>
        </p:spPr>
        <p:style>
          <a:lnRef idx="0"/>
          <a:fillRef idx="0"/>
          <a:effectRef idx="0"/>
          <a:fontRef idx="minor"/>
        </p:style>
        <p:txBody>
          <a:bodyPr lIns="90000" rIns="90000" tIns="46800" bIns="46800" anchor="t">
            <a:normAutofit/>
          </a:bodyPr>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âu hỏi: Ở vùng não nào mà sự phủ nhận có liên hệ tới cường độ kết nối với hồi trước chêm?</a:t>
            </a:r>
            <a:endParaRPr b="0" lang="en-US" sz="2600" spc="-1" strike="noStrike">
              <a:solidFill>
                <a:srgbClr val="000000"/>
              </a:solidFill>
              <a:latin typeface="Times New Roman"/>
            </a:endParaRPr>
          </a:p>
        </p:txBody>
      </p:sp>
      <p:pic>
        <p:nvPicPr>
          <p:cNvPr id="1010" name="Picture 5" descr="C:\Users\acdean\AppData\Local\Microsoft\Windows\Temporary Internet Files\Content.Outlook\80D0CY89\Screen shot 2014-02-21 at 4 51 34 PM.png"/>
          <p:cNvPicPr/>
          <p:nvPr/>
        </p:nvPicPr>
        <p:blipFill>
          <a:blip r:embed="rId2"/>
          <a:stretch/>
        </p:blipFill>
        <p:spPr>
          <a:xfrm>
            <a:off x="6781680" y="447840"/>
            <a:ext cx="2079720" cy="1688760"/>
          </a:xfrm>
          <a:prstGeom prst="rect">
            <a:avLst/>
          </a:prstGeom>
          <a:ln w="0">
            <a:noFill/>
          </a:ln>
        </p:spPr>
      </p:pic>
      <p:pic>
        <p:nvPicPr>
          <p:cNvPr id="1011" name="Picture 2" descr="http://fmri.research.umich.edu/images/research_reconMeth.jpg"/>
          <p:cNvPicPr/>
          <p:nvPr/>
        </p:nvPicPr>
        <p:blipFill>
          <a:blip r:embed="rId3"/>
          <a:srcRect l="510" t="20884" r="67193" b="2197"/>
          <a:stretch/>
        </p:blipFill>
        <p:spPr>
          <a:xfrm>
            <a:off x="4800600" y="369720"/>
            <a:ext cx="1854360" cy="17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880" y="26668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KẾT QUẢ</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0492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iền dự định và sử dụng meth</a:t>
            </a:r>
            <a:endParaRPr b="1" lang="en-US" sz="3900" spc="-1" strike="noStrike">
              <a:solidFill>
                <a:srgbClr val="330066"/>
              </a:solidFill>
              <a:latin typeface="Arial"/>
            </a:endParaRPr>
          </a:p>
        </p:txBody>
      </p:sp>
      <p:graphicFrame>
        <p:nvGraphicFramePr>
          <p:cNvPr id="1014" name=""/>
          <p:cNvGraphicFramePr/>
          <p:nvPr/>
        </p:nvGraphicFramePr>
        <p:xfrm>
          <a:off x="330120" y="2514600"/>
          <a:ext cx="8534520" cy="2986200"/>
        </p:xfrm>
        <a:graphic>
          <a:graphicData uri="http://schemas.openxmlformats.org/drawingml/2006/table">
            <a:tbl>
              <a:tblPr/>
              <a:tblGrid>
                <a:gridCol w="4267440"/>
                <a:gridCol w="4267080"/>
              </a:tblGrid>
              <a:tr h="870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o lường Me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n dự địn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9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ố năm sử dụng Me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 .26, p = .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ố lần bị bắt giữ vì phạm tội liên quan đến ma tú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dự định thấp= 0.40</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dự định cao= 2.5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 .045*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53352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ủ nhận và chức năng nhận thức tổng quát</a:t>
            </a:r>
            <a:endParaRPr b="1" lang="en-US" sz="3900" spc="-1" strike="noStrike">
              <a:solidFill>
                <a:srgbClr val="330066"/>
              </a:solidFill>
              <a:latin typeface="Arial"/>
            </a:endParaRPr>
          </a:p>
        </p:txBody>
      </p:sp>
      <p:pic>
        <p:nvPicPr>
          <p:cNvPr id="1016" name="Picture 8" descr=""/>
          <p:cNvPicPr/>
          <p:nvPr/>
        </p:nvPicPr>
        <p:blipFill>
          <a:blip r:embed="rId1"/>
          <a:stretch/>
        </p:blipFill>
        <p:spPr>
          <a:xfrm>
            <a:off x="0" y="1600200"/>
            <a:ext cx="7074000" cy="4400640"/>
          </a:xfrm>
          <a:prstGeom prst="rect">
            <a:avLst/>
          </a:prstGeom>
          <a:ln w="0">
            <a:noFill/>
          </a:ln>
        </p:spPr>
      </p:pic>
      <p:sp>
        <p:nvSpPr>
          <p:cNvPr id="1017" name="Text Box 7"/>
          <p:cNvSpPr/>
          <p:nvPr/>
        </p:nvSpPr>
        <p:spPr>
          <a:xfrm>
            <a:off x="4267080" y="20574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β=-0.425, t(57)=-3.513, p=0.001**</a:t>
            </a:r>
            <a:endParaRPr b="0" lang="en-US" sz="1600" spc="-1" strike="noStrike">
              <a:solidFill>
                <a:srgbClr val="000000"/>
              </a:solidFill>
              <a:latin typeface="Times New Roman"/>
            </a:endParaRPr>
          </a:p>
        </p:txBody>
      </p:sp>
      <p:sp>
        <p:nvSpPr>
          <p:cNvPr id="1018" name="TextBox 1"/>
          <p:cNvSpPr/>
          <p:nvPr/>
        </p:nvSpPr>
        <p:spPr>
          <a:xfrm>
            <a:off x="6248520" y="6095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n và cộng sự., 2015</a:t>
            </a:r>
            <a:endParaRPr b="0" lang="en-US" sz="1800" spc="-1" strike="noStrike">
              <a:solidFill>
                <a:srgbClr val="000000"/>
              </a:solidFill>
              <a:latin typeface="Times New Roman"/>
            </a:endParaRPr>
          </a:p>
        </p:txBody>
      </p:sp>
      <p:sp>
        <p:nvSpPr>
          <p:cNvPr id="1019" name="TextBox 5"/>
          <p:cNvSpPr/>
          <p:nvPr/>
        </p:nvSpPr>
        <p:spPr>
          <a:xfrm rot="10800000">
            <a:off x="985680" y="1980720"/>
            <a:ext cx="454680" cy="304812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iểm số chứng năng nhận thức</a:t>
            </a:r>
            <a:endParaRPr b="0" lang="en-US" sz="1800" spc="-1" strike="noStrike">
              <a:solidFill>
                <a:srgbClr val="000000"/>
              </a:solidFill>
              <a:latin typeface="Times New Roman"/>
            </a:endParaRPr>
          </a:p>
        </p:txBody>
      </p:sp>
      <p:sp>
        <p:nvSpPr>
          <p:cNvPr id="1020" name="TextBox 6"/>
          <p:cNvSpPr/>
          <p:nvPr/>
        </p:nvSpPr>
        <p:spPr>
          <a:xfrm>
            <a:off x="2743200" y="5562720"/>
            <a:ext cx="281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iểm số tiền dự địn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ủ nhận và các lĩnh vực chức năng nhận thức</a:t>
            </a:r>
            <a:endParaRPr b="1" lang="en-US" sz="3900" spc="-1" strike="noStrike">
              <a:solidFill>
                <a:srgbClr val="330066"/>
              </a:solidFill>
              <a:latin typeface="Arial"/>
            </a:endParaRPr>
          </a:p>
        </p:txBody>
      </p:sp>
      <p:sp>
        <p:nvSpPr>
          <p:cNvPr id="1022" name=""/>
          <p:cNvSpPr txBox="1"/>
          <p:nvPr/>
        </p:nvSpPr>
        <p:spPr>
          <a:xfrm>
            <a:off x="304920" y="1719360"/>
            <a:ext cx="86868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í nhớ</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fr-FR" sz="2800" spc="-1" strike="noStrike">
                <a:solidFill>
                  <a:srgbClr val="000000"/>
                </a:solidFill>
                <a:latin typeface="Arial"/>
              </a:rPr>
              <a:t>β=-0.392, p=0.007**</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ức năng điều hành</a:t>
            </a:r>
            <a:r>
              <a:rPr b="0" lang="fr-FR" sz="2800" spc="-1" strike="noStrike">
                <a:solidFill>
                  <a:srgbClr val="000000"/>
                </a:solidFill>
                <a:latin typeface="Arial"/>
              </a:rPr>
              <a:t>	</a:t>
            </a:r>
            <a:r>
              <a:rPr b="0" lang="fr-FR" sz="2800" spc="-1" strike="noStrike">
                <a:solidFill>
                  <a:srgbClr val="000000"/>
                </a:solidFill>
                <a:latin typeface="Arial"/>
              </a:rPr>
              <a:t>β=-0.327, p=0.011*</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ú ý</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β=-0.231, p=0.094</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í nhớ làm việc</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β =-0.155, p=0.40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8568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ủ nhận và kết nối vỏ não đai trước đầu (rACC)</a:t>
            </a:r>
            <a:endParaRPr b="1" lang="en-US" sz="3900" spc="-1" strike="noStrike">
              <a:solidFill>
                <a:srgbClr val="330066"/>
              </a:solidFill>
              <a:latin typeface="Arial"/>
            </a:endParaRPr>
          </a:p>
        </p:txBody>
      </p:sp>
      <p:sp>
        <p:nvSpPr>
          <p:cNvPr id="1024" name="TextBox 8"/>
          <p:cNvSpPr/>
          <p:nvPr/>
        </p:nvSpPr>
        <p:spPr>
          <a:xfrm>
            <a:off x="5067360" y="6434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lt; .016, whole-brain corrected</a:t>
            </a:r>
            <a:endParaRPr b="0" lang="en-US" sz="1800" spc="-1" strike="noStrike">
              <a:solidFill>
                <a:srgbClr val="000000"/>
              </a:solidFill>
              <a:latin typeface="Times New Roman"/>
            </a:endParaRPr>
          </a:p>
        </p:txBody>
      </p:sp>
      <p:pic>
        <p:nvPicPr>
          <p:cNvPr id="1025" name="Picture 9" descr=""/>
          <p:cNvPicPr/>
          <p:nvPr/>
        </p:nvPicPr>
        <p:blipFill>
          <a:blip r:embed="rId1"/>
          <a:srcRect l="0" t="0" r="0" b="49680"/>
          <a:stretch/>
        </p:blipFill>
        <p:spPr>
          <a:xfrm>
            <a:off x="228600" y="1219320"/>
            <a:ext cx="8504280" cy="2948040"/>
          </a:xfrm>
          <a:prstGeom prst="rect">
            <a:avLst/>
          </a:prstGeom>
          <a:ln w="0">
            <a:noFill/>
          </a:ln>
        </p:spPr>
      </p:pic>
      <p:sp>
        <p:nvSpPr>
          <p:cNvPr id="1026" name="TextBox 6"/>
          <p:cNvSpPr/>
          <p:nvPr/>
        </p:nvSpPr>
        <p:spPr>
          <a:xfrm>
            <a:off x="380880" y="4343400"/>
            <a:ext cx="7315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ủ nhận càng cao, càng có ít kết nối giữa rACC và :</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ạnh nhân trái</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ải mã trái</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ỏ não trán ổ mắt trái</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ỏ não trước trung tâm phả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60" y="22824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ủ nhận và kết nối với hồi trước chêm</a:t>
            </a:r>
            <a:endParaRPr b="1" lang="en-US" sz="3900" spc="-1" strike="noStrike">
              <a:solidFill>
                <a:srgbClr val="330066"/>
              </a:solidFill>
              <a:latin typeface="Arial"/>
            </a:endParaRPr>
          </a:p>
        </p:txBody>
      </p:sp>
      <p:sp>
        <p:nvSpPr>
          <p:cNvPr id="1028" name="TextBox 8"/>
          <p:cNvSpPr/>
          <p:nvPr/>
        </p:nvSpPr>
        <p:spPr>
          <a:xfrm>
            <a:off x="4808520" y="64008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lt; .016, điều chỉnh lại cho toàn bộ não</a:t>
            </a:r>
            <a:endParaRPr b="0" lang="en-US" sz="1800" spc="-1" strike="noStrike">
              <a:solidFill>
                <a:srgbClr val="000000"/>
              </a:solidFill>
              <a:latin typeface="Times New Roman"/>
            </a:endParaRPr>
          </a:p>
        </p:txBody>
      </p:sp>
      <p:pic>
        <p:nvPicPr>
          <p:cNvPr id="1029" name="Picture 9" descr=""/>
          <p:cNvPicPr/>
          <p:nvPr/>
        </p:nvPicPr>
        <p:blipFill>
          <a:blip r:embed="rId1"/>
          <a:srcRect l="0" t="49992" r="0" b="3558"/>
          <a:stretch/>
        </p:blipFill>
        <p:spPr>
          <a:xfrm>
            <a:off x="365040" y="1981080"/>
            <a:ext cx="7956720" cy="2546640"/>
          </a:xfrm>
          <a:prstGeom prst="rect">
            <a:avLst/>
          </a:prstGeom>
          <a:ln w="0">
            <a:noFill/>
          </a:ln>
        </p:spPr>
      </p:pic>
      <p:sp>
        <p:nvSpPr>
          <p:cNvPr id="1030" name="TextBox 12"/>
          <p:cNvSpPr/>
          <p:nvPr/>
        </p:nvSpPr>
        <p:spPr>
          <a:xfrm>
            <a:off x="380880" y="586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ùy đảo trước: không có</a:t>
            </a:r>
            <a:endParaRPr b="0" lang="en-US" sz="1800" spc="-1" strike="noStrike">
              <a:solidFill>
                <a:srgbClr val="000000"/>
              </a:solidFill>
              <a:latin typeface="Times New Roman"/>
            </a:endParaRPr>
          </a:p>
        </p:txBody>
      </p:sp>
      <p:sp>
        <p:nvSpPr>
          <p:cNvPr id="1031" name="TextBox 7"/>
          <p:cNvSpPr/>
          <p:nvPr/>
        </p:nvSpPr>
        <p:spPr>
          <a:xfrm>
            <a:off x="457200" y="4648320"/>
            <a:ext cx="7315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ủ nhận càng cao, càng có ít kết nối giữa hồi trước chêm và:</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g não phải</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ểu n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80520" y="380520"/>
            <a:ext cx="7543800" cy="808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óm tắt</a:t>
            </a:r>
            <a:endParaRPr b="1" lang="en-US" sz="3900" spc="-1" strike="noStrike">
              <a:solidFill>
                <a:srgbClr val="330066"/>
              </a:solidFill>
              <a:latin typeface="Arial"/>
            </a:endParaRPr>
          </a:p>
        </p:txBody>
      </p:sp>
      <p:sp>
        <p:nvSpPr>
          <p:cNvPr id="1033" name=""/>
          <p:cNvSpPr txBox="1"/>
          <p:nvPr/>
        </p:nvSpPr>
        <p:spPr>
          <a:xfrm>
            <a:off x="457200" y="1218960"/>
            <a:ext cx="8229600" cy="4986360"/>
          </a:xfrm>
          <a:prstGeom prst="rect">
            <a:avLst/>
          </a:prstGeom>
          <a:noFill/>
          <a:ln w="0">
            <a:noFill/>
          </a:ln>
        </p:spPr>
        <p:txBody>
          <a:bodyPr anchor="t">
            <a:normAutofit fontScale="91000"/>
          </a:bodyPr>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ủ nhận có liên quan với suy giảm chức năng nhận thức, đặc biệt là trí nhớ và chức năng điều hành.</a:t>
            </a:r>
            <a:endParaRPr b="0" lang="en-US" sz="3000" spc="-1" strike="noStrike">
              <a:solidFill>
                <a:srgbClr val="000000"/>
              </a:solidFill>
              <a:latin typeface="Arial"/>
            </a:endParaRPr>
          </a:p>
          <a:p>
            <a:pPr marL="312120" indent="-31212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ủ nhận cũng có liên quan đến sự giảm kết nối giữa những vùng não quan trọng cho sự tự nhận thức, cảm xúc, sự tưởng thưởng và ra quyết định.</a:t>
            </a:r>
            <a:endParaRPr b="0" lang="en-US" sz="30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ức năng nhận thức và thần kinh có thể góp phần vào việc thiếu tự nhận thức trong quá trình nghiệ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Ý nghĩa trong lâm sàng</a:t>
            </a:r>
            <a:endParaRPr b="1" lang="en-US" sz="3900" spc="-1" strike="noStrike">
              <a:solidFill>
                <a:srgbClr val="330066"/>
              </a:solidFill>
              <a:latin typeface="Arial"/>
            </a:endParaRPr>
          </a:p>
        </p:txBody>
      </p:sp>
      <p:sp>
        <p:nvSpPr>
          <p:cNvPr id="1035" name=""/>
          <p:cNvSpPr txBox="1"/>
          <p:nvPr/>
        </p:nvSpPr>
        <p:spPr>
          <a:xfrm>
            <a:off x="457200" y="1719360"/>
            <a:ext cx="8229600" cy="44114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ầm quan trọng của động lực thay đổ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 ý đến chức năng nhận thức bị hạn chế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 thể cần hỗ trợ giúp nhận ra vấn đề</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 thể cần nhắc lại những nội dung đã trao đổi trước đó</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amphetamine (Meth, ma túy đá)</a:t>
            </a:r>
            <a:endParaRPr b="1" lang="en-US" sz="3900" spc="-1" strike="noStrike">
              <a:solidFill>
                <a:srgbClr val="330066"/>
              </a:solidFill>
              <a:latin typeface="Arial"/>
            </a:endParaRPr>
          </a:p>
        </p:txBody>
      </p:sp>
      <p:sp>
        <p:nvSpPr>
          <p:cNvPr id="973" name=""/>
          <p:cNvSpPr txBox="1"/>
          <p:nvPr/>
        </p:nvSpPr>
        <p:spPr>
          <a:xfrm>
            <a:off x="457200" y="1719000"/>
            <a:ext cx="8229600" cy="483372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c dụng cấp tính</a:t>
            </a:r>
            <a:endParaRPr b="0" lang="en-US" sz="24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ê sướng và tự ti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tập trung, dồi dào năng lượng</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Ít ngủ và ăn mất ngon</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Ảo giác, hoang tưởng</a:t>
            </a:r>
            <a:endParaRPr b="0" lang="en-US" sz="2000" spc="-1" strike="noStrike">
              <a:solidFill>
                <a:srgbClr val="000000"/>
              </a:solidFill>
              <a:latin typeface="Arial"/>
            </a:endParaRPr>
          </a:p>
          <a:p>
            <a:pPr lvl="1" marL="692280" indent="-347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c dụng mãn tính</a:t>
            </a:r>
            <a:endParaRPr b="0" lang="en-US" sz="24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dung nạp</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ệu chứng cai (ví dụ: trầm cảm, mệt mỏi, thèm nhớ)</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ức khỏe, nguy cơ tim mạch</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ất khả năng tự kiểm soát</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380520" y="1828440"/>
            <a:ext cx="7543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ảm ơn</a:t>
            </a:r>
            <a:endParaRPr b="1" lang="en-US" sz="3900" spc="-1" strike="noStrike">
              <a:solidFill>
                <a:srgbClr val="330066"/>
              </a:solidFill>
              <a:latin typeface="Arial"/>
            </a:endParaRPr>
          </a:p>
        </p:txBody>
      </p:sp>
      <p:sp>
        <p:nvSpPr>
          <p:cNvPr id="1037" name=""/>
          <p:cNvSpPr txBox="1"/>
          <p:nvPr/>
        </p:nvSpPr>
        <p:spPr>
          <a:xfrm>
            <a:off x="304920" y="2514600"/>
            <a:ext cx="8229600" cy="1447920"/>
          </a:xfrm>
          <a:prstGeom prst="rect">
            <a:avLst/>
          </a:prstGeom>
          <a:noFill/>
          <a:ln w="0">
            <a:noFill/>
          </a:ln>
        </p:spPr>
        <p:txBody>
          <a:bodyPr anchor="t">
            <a:normAutofit fontScale="63000"/>
          </a:bodyPr>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n Sức khỏe Quốc gia Hoa Kỳ (NIH)/ Viện Lạm dụng chất quốc gia (NIDA)</a:t>
            </a: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 Milky Kohno</a:t>
            </a: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 Eydie London</a:t>
            </a: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 Angie Morales</a:t>
            </a: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 Dara Ghahremani</a:t>
            </a:r>
            <a:endParaRPr b="0" lang="en-US" sz="2000" spc="-1" strike="noStrike">
              <a:solidFill>
                <a:srgbClr val="000000"/>
              </a:solidFill>
              <a:latin typeface="Arial"/>
            </a:endParaRPr>
          </a:p>
          <a:p>
            <a:pPr marL="216000" indent="-216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8" name="Rectangle 2"/>
          <p:cNvSpPr/>
          <p:nvPr/>
        </p:nvSpPr>
        <p:spPr>
          <a:xfrm>
            <a:off x="304920" y="838080"/>
            <a:ext cx="7543800" cy="762120"/>
          </a:xfrm>
          <a:prstGeom prst="rect">
            <a:avLst/>
          </a:prstGeom>
          <a:noFill/>
          <a:ln w="0">
            <a:noFill/>
          </a:ln>
        </p:spPr>
        <p:style>
          <a:lnRef idx="0"/>
          <a:fillRef idx="0"/>
          <a:effectRef idx="0"/>
          <a:fontRef idx="minor"/>
        </p:style>
        <p:txBody>
          <a:bodyPr lIns="90000" rIns="90000" tIns="46800" bIns="46800" anchor="b">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Dean, Kohno, Morales, Ghahremani &amp; London (2015). Lệ thuộc ma túy và rượu bia (</a:t>
            </a:r>
            <a:r>
              <a:rPr b="1" i="1" lang="en-US" sz="2000" spc="-1" strike="noStrike">
                <a:solidFill>
                  <a:srgbClr val="330066"/>
                </a:solidFill>
                <a:latin typeface="Arial"/>
              </a:rPr>
              <a:t>Drug &amp; Alcohol Dependence)</a:t>
            </a:r>
            <a:r>
              <a:rPr b="1" lang="en-US" sz="2000" spc="-1" strike="noStrike">
                <a:solidFill>
                  <a:srgbClr val="330066"/>
                </a:solidFill>
                <a:latin typeface="Arial"/>
              </a:rPr>
              <a:t>, 151, 84-9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ậy tại sao người sử dụng không từ bỏ?</a:t>
            </a:r>
            <a:endParaRPr b="1" lang="en-US" sz="3900" spc="-1" strike="noStrike">
              <a:solidFill>
                <a:srgbClr val="330066"/>
              </a:solidFill>
              <a:latin typeface="Arial"/>
            </a:endParaRPr>
          </a:p>
        </p:txBody>
      </p:sp>
      <p:sp>
        <p:nvSpPr>
          <p:cNvPr id="975"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 muốn ngưng, nhưng cảm thấy mất kiểm soát</a:t>
            </a:r>
            <a:endParaRPr b="0" lang="en-US" sz="3000" spc="-1" strike="noStrike">
              <a:solidFill>
                <a:srgbClr val="000000"/>
              </a:solidFill>
              <a:latin typeface="Arial"/>
            </a:endParaRPr>
          </a:p>
          <a:p>
            <a:pPr lvl="1" marL="692280" indent="-347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 không muốn ngưng hoặc còn lưỡng lự</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ủ nhậ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10% được điều trị (SAMHSA, 2007)</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ủ nhận như một quá trình tâm động học</a:t>
            </a:r>
            <a:endParaRPr b="1" lang="en-US" sz="3900" spc="-1" strike="noStrike">
              <a:solidFill>
                <a:srgbClr val="330066"/>
              </a:solidFill>
              <a:latin typeface="Arial"/>
            </a:endParaRPr>
          </a:p>
        </p:txBody>
      </p:sp>
      <p:sp>
        <p:nvSpPr>
          <p:cNvPr id="9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ảo vệ ý niệm về bản thân (self-concept) trước những thông tin tiêu cự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Người nghiện </a:t>
            </a:r>
            <a:r>
              <a:rPr b="0" i="1" lang="en-US" sz="2600" spc="-1" strike="noStrike">
                <a:solidFill>
                  <a:srgbClr val="000000"/>
                </a:solidFill>
                <a:latin typeface="Arial"/>
              </a:rPr>
              <a:t>đúng nghĩa </a:t>
            </a:r>
            <a:r>
              <a:rPr b="0" lang="en-US" sz="2600" spc="-1" strike="noStrike">
                <a:solidFill>
                  <a:srgbClr val="000000"/>
                </a:solidFill>
                <a:latin typeface="Arial"/>
              </a:rPr>
              <a:t>thì không thể giữ nổi một công việc”</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Bạn tôi còn uống rượu nhiều hơn tôi, nên tôi vẫn chưa sao”</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ủ nhận do giảm sự tự nhận thức</a:t>
            </a:r>
            <a:endParaRPr b="1" lang="en-US" sz="3900" spc="-1" strike="noStrike">
              <a:solidFill>
                <a:srgbClr val="330066"/>
              </a:solidFill>
              <a:latin typeface="Arial"/>
            </a:endParaRPr>
          </a:p>
        </p:txBody>
      </p:sp>
      <p:sp>
        <p:nvSpPr>
          <p:cNvPr id="979" name=""/>
          <p:cNvSpPr txBox="1"/>
          <p:nvPr/>
        </p:nvSpPr>
        <p:spPr>
          <a:xfrm>
            <a:off x="457200" y="1719360"/>
            <a:ext cx="8229600" cy="4411440"/>
          </a:xfrm>
          <a:prstGeom prst="rect">
            <a:avLst/>
          </a:prstGeom>
          <a:noFill/>
          <a:ln w="0">
            <a:noFill/>
          </a:ln>
        </p:spPr>
        <p:txBody>
          <a:bodyPr anchor="t">
            <a:normAutofit fontScale="95000"/>
          </a:bodyPr>
          <a:p>
            <a:pPr marL="325800" indent="-325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ó vấn đề thần kinh nhận thức trong việc tự suy xét bản thân.</a:t>
            </a:r>
            <a:endParaRPr b="0" lang="en-US" sz="30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ổn thương não có thể làm giảm khả năng suy xét bản thân</a:t>
            </a:r>
            <a:endParaRPr b="0" lang="en-US" sz="2600" spc="-1" strike="noStrike">
              <a:solidFill>
                <a:srgbClr val="000000"/>
              </a:solidFill>
              <a:latin typeface="Arial"/>
            </a:endParaRPr>
          </a:p>
          <a:p>
            <a:pPr marL="325800" indent="-3258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vùng não liên quan đến nghiện cũng quan trọng cho sự tự nhận thức </a:t>
            </a:r>
            <a:r>
              <a:rPr b="0" lang="en-US" sz="2000" spc="-1" strike="noStrike">
                <a:solidFill>
                  <a:srgbClr val="000000"/>
                </a:solidFill>
                <a:latin typeface="Arial"/>
              </a:rPr>
              <a:t>(vd, Goldstein và cộng sự, 2009)</a:t>
            </a:r>
            <a:endParaRPr b="0" lang="en-US" sz="20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ùy đảo</a:t>
            </a:r>
            <a:endParaRPr b="0" lang="en-US" sz="26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ỏ não hồi đai trước (ACC)</a:t>
            </a:r>
            <a:endParaRPr b="0" lang="en-US" sz="2600" spc="-1" strike="noStrike">
              <a:solidFill>
                <a:srgbClr val="000000"/>
              </a:solidFill>
              <a:latin typeface="Arial"/>
            </a:endParaRPr>
          </a:p>
          <a:p>
            <a:pPr lvl="1" marL="657360" indent="-3301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trước chêm (Precuneus)</a:t>
            </a:r>
            <a:endParaRPr b="0" lang="en-US" sz="2600" spc="-1" strike="noStrike">
              <a:solidFill>
                <a:srgbClr val="000000"/>
              </a:solidFill>
              <a:latin typeface="Arial"/>
            </a:endParaRPr>
          </a:p>
          <a:p>
            <a:pPr lvl="1" marL="657360" indent="-33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Khả năng nhận ra lỗi của người lạm dụng cần sa </a:t>
            </a:r>
            <a:endParaRPr b="1" lang="en-US" sz="4000" spc="-1" strike="noStrike">
              <a:solidFill>
                <a:srgbClr val="330066"/>
              </a:solidFill>
              <a:latin typeface="Arial"/>
            </a:endParaRPr>
          </a:p>
        </p:txBody>
      </p:sp>
      <p:sp>
        <p:nvSpPr>
          <p:cNvPr id="9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82" name="Picture 4" descr=""/>
          <p:cNvPicPr/>
          <p:nvPr/>
        </p:nvPicPr>
        <p:blipFill>
          <a:blip r:embed="rId1"/>
          <a:srcRect l="42745" t="22260" r="4499" b="19843"/>
          <a:stretch/>
        </p:blipFill>
        <p:spPr>
          <a:xfrm>
            <a:off x="2133720" y="1447920"/>
            <a:ext cx="5611680" cy="4800600"/>
          </a:xfrm>
          <a:prstGeom prst="rect">
            <a:avLst/>
          </a:prstGeom>
          <a:ln w="0">
            <a:noFill/>
          </a:ln>
        </p:spPr>
      </p:pic>
      <p:sp>
        <p:nvSpPr>
          <p:cNvPr id="983" name="Text Box 5"/>
          <p:cNvSpPr/>
          <p:nvPr/>
        </p:nvSpPr>
        <p:spPr>
          <a:xfrm>
            <a:off x="201600" y="268596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ùy đảo phải</a:t>
            </a:r>
            <a:endParaRPr b="0" lang="en-US" sz="2400" spc="-1" strike="noStrike">
              <a:solidFill>
                <a:srgbClr val="000000"/>
              </a:solidFill>
              <a:latin typeface="Times New Roman"/>
            </a:endParaRPr>
          </a:p>
        </p:txBody>
      </p:sp>
      <p:sp>
        <p:nvSpPr>
          <p:cNvPr id="984" name="Text Box 6"/>
          <p:cNvSpPr/>
          <p:nvPr/>
        </p:nvSpPr>
        <p:spPr>
          <a:xfrm>
            <a:off x="76320" y="441648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ỏ não hồi đai trước</a:t>
            </a:r>
            <a:endParaRPr b="0" lang="en-US" sz="2400" spc="-1" strike="noStrike">
              <a:solidFill>
                <a:srgbClr val="000000"/>
              </a:solidFill>
              <a:latin typeface="Times New Roman"/>
            </a:endParaRPr>
          </a:p>
        </p:txBody>
      </p:sp>
      <p:sp>
        <p:nvSpPr>
          <p:cNvPr id="985" name="Text Box 7"/>
          <p:cNvSpPr/>
          <p:nvPr/>
        </p:nvSpPr>
        <p:spPr>
          <a:xfrm>
            <a:off x="7620120" y="601668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ter và cs, 2009</a:t>
            </a:r>
            <a:endParaRPr b="0" lang="en-US" sz="2400" spc="-1" strike="noStrike">
              <a:solidFill>
                <a:srgbClr val="000000"/>
              </a:solidFill>
              <a:latin typeface="Times New Roman"/>
            </a:endParaRPr>
          </a:p>
        </p:txBody>
      </p:sp>
      <p:sp>
        <p:nvSpPr>
          <p:cNvPr id="986" name="TextBox 1"/>
          <p:cNvSpPr/>
          <p:nvPr/>
        </p:nvSpPr>
        <p:spPr>
          <a:xfrm>
            <a:off x="3429000" y="1604880"/>
            <a:ext cx="55260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ứng</a:t>
            </a:r>
            <a:endParaRPr b="0" lang="en-US" sz="1400" spc="-1" strike="noStrike">
              <a:solidFill>
                <a:srgbClr val="000000"/>
              </a:solidFill>
              <a:latin typeface="Times New Roman"/>
            </a:endParaRPr>
          </a:p>
        </p:txBody>
      </p:sp>
      <p:sp>
        <p:nvSpPr>
          <p:cNvPr id="987" name="TextBox 8"/>
          <p:cNvSpPr/>
          <p:nvPr/>
        </p:nvSpPr>
        <p:spPr>
          <a:xfrm>
            <a:off x="4309920" y="1608120"/>
            <a:ext cx="62892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ần sa</a:t>
            </a:r>
            <a:endParaRPr b="0" lang="en-US" sz="1400" spc="-1" strike="noStrike">
              <a:solidFill>
                <a:srgbClr val="000000"/>
              </a:solidFill>
              <a:latin typeface="Times New Roman"/>
            </a:endParaRPr>
          </a:p>
        </p:txBody>
      </p:sp>
      <p:sp>
        <p:nvSpPr>
          <p:cNvPr id="988" name="TextBox 9"/>
          <p:cNvSpPr/>
          <p:nvPr/>
        </p:nvSpPr>
        <p:spPr>
          <a:xfrm>
            <a:off x="3405240" y="5562720"/>
            <a:ext cx="94464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hận ra lỗi</a:t>
            </a:r>
            <a:endParaRPr b="0" lang="en-US" sz="1400" spc="-1" strike="noStrike">
              <a:solidFill>
                <a:srgbClr val="000000"/>
              </a:solidFill>
              <a:latin typeface="Times New Roman"/>
            </a:endParaRPr>
          </a:p>
        </p:txBody>
      </p:sp>
      <p:sp>
        <p:nvSpPr>
          <p:cNvPr id="989" name="TextBox 10"/>
          <p:cNvSpPr/>
          <p:nvPr/>
        </p:nvSpPr>
        <p:spPr>
          <a:xfrm>
            <a:off x="4424400" y="5562720"/>
            <a:ext cx="134136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ông nhận ra lỗ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ự nhận thức trong tâm thần phân liệt</a:t>
            </a:r>
            <a:endParaRPr b="1" lang="en-US" sz="3900" spc="-1" strike="noStrike">
              <a:solidFill>
                <a:srgbClr val="330066"/>
              </a:solidFill>
              <a:latin typeface="Arial"/>
            </a:endParaRPr>
          </a:p>
        </p:txBody>
      </p:sp>
      <p:pic>
        <p:nvPicPr>
          <p:cNvPr id="991" name="Picture 2" descr="An external file that holds a picture, illustration, etc.&#10;Object name is pg297f1.jpg"/>
          <p:cNvPicPr/>
          <p:nvPr/>
        </p:nvPicPr>
        <p:blipFill>
          <a:blip r:embed="rId1"/>
          <a:srcRect l="32462" t="0" r="354" b="0"/>
          <a:stretch/>
        </p:blipFill>
        <p:spPr>
          <a:xfrm>
            <a:off x="3624120" y="1981080"/>
            <a:ext cx="4480200" cy="4038840"/>
          </a:xfrm>
          <a:prstGeom prst="rect">
            <a:avLst/>
          </a:prstGeom>
          <a:ln w="0">
            <a:noFill/>
          </a:ln>
        </p:spPr>
      </p:pic>
      <p:sp>
        <p:nvSpPr>
          <p:cNvPr id="992" name="TextBox 3"/>
          <p:cNvSpPr/>
          <p:nvPr/>
        </p:nvSpPr>
        <p:spPr>
          <a:xfrm>
            <a:off x="304920" y="63244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CBF cao (N = 21) &gt; nhận thức kém (N = 10)                 Faget-Agius và cộng sự., 2012</a:t>
            </a:r>
            <a:endParaRPr b="0" lang="en-US" sz="1800" spc="-1" strike="noStrike">
              <a:solidFill>
                <a:srgbClr val="000000"/>
              </a:solidFill>
              <a:latin typeface="Times New Roman"/>
            </a:endParaRPr>
          </a:p>
        </p:txBody>
      </p:sp>
      <p:sp>
        <p:nvSpPr>
          <p:cNvPr id="993" name="Right Arrow 4"/>
          <p:cNvSpPr/>
          <p:nvPr/>
        </p:nvSpPr>
        <p:spPr>
          <a:xfrm>
            <a:off x="3048120" y="2209680"/>
            <a:ext cx="1218960" cy="304920"/>
          </a:xfrm>
          <a:prstGeom prst="rightArrow">
            <a:avLst>
              <a:gd name="adj1" fmla="val 50000"/>
              <a:gd name="adj2" fmla="val 49970"/>
            </a:avLst>
          </a:prstGeom>
          <a:solidFill>
            <a:srgbClr val="00b0f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TextBox 5"/>
          <p:cNvSpPr/>
          <p:nvPr/>
        </p:nvSpPr>
        <p:spPr>
          <a:xfrm>
            <a:off x="914400" y="214164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ồi trước chê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282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 và sự phủ nhận</a:t>
            </a:r>
            <a:endParaRPr b="1" lang="en-US" sz="3900" spc="-1" strike="noStrike">
              <a:solidFill>
                <a:srgbClr val="330066"/>
              </a:solidFill>
              <a:latin typeface="Arial"/>
            </a:endParaRPr>
          </a:p>
        </p:txBody>
      </p:sp>
      <p:sp>
        <p:nvSpPr>
          <p:cNvPr id="9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8 người tham gia đang lệ thuộc Meth</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 thiết 1: Phủ nhận và chức năng nhận thức có mối liên hệ nghịch</a:t>
            </a:r>
            <a:endParaRPr b="0" lang="en-US" sz="3000" spc="-1" strike="noStrike">
              <a:solidFill>
                <a:srgbClr val="000000"/>
              </a:solidFill>
              <a:latin typeface="Arial"/>
            </a:endParaRPr>
          </a:p>
          <a:p>
            <a:pPr lvl="1"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 thiết 2: Phủ nhận sẽ liên hệ nghịch đến sự kết nối trong não của các vùng quan trọng cho sự tự nhận thức (thùy đảo trước, vỏ não hồi đai trước đầu, hồi trước chêm)</a:t>
            </a:r>
            <a:endParaRPr b="0" lang="en-US" sz="3000" spc="-1" strike="noStrike">
              <a:solidFill>
                <a:srgbClr val="000000"/>
              </a:solidFill>
              <a:latin typeface="Arial"/>
            </a:endParaRPr>
          </a:p>
          <a:p>
            <a:pPr lvl="1"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Đo lường sự phủ nhận</a:t>
            </a:r>
            <a:endParaRPr b="1" lang="en-US" sz="3900" spc="-1" strike="noStrike">
              <a:solidFill>
                <a:srgbClr val="330066"/>
              </a:solidFill>
              <a:latin typeface="Arial"/>
            </a:endParaRPr>
          </a:p>
        </p:txBody>
      </p:sp>
      <p:sp>
        <p:nvSpPr>
          <p:cNvPr id="9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ng đo tiền dự định (URICA)</a:t>
            </a:r>
            <a:endParaRPr b="0" lang="en-US" sz="3000" spc="-1" strike="noStrike">
              <a:solidFill>
                <a:srgbClr val="000000"/>
              </a:solidFill>
              <a:latin typeface="Arial"/>
            </a:endParaRPr>
          </a:p>
          <a:p>
            <a:pPr lvl="1"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34308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o ý tôi, tôi chẳng có vấn đề gì cần phải thay đổi cả” </a:t>
            </a:r>
            <a:endParaRPr b="0" lang="en-US" sz="2600" spc="-1" strike="noStrike">
              <a:solidFill>
                <a:srgbClr val="000000"/>
              </a:solidFill>
              <a:latin typeface="Arial"/>
            </a:endParaRPr>
          </a:p>
          <a:p>
            <a:pPr lvl="1"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34308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ôi không phải là người có vấn đề; tôi chẳng cần phải suy nghĩ đến chuyện thay đổi”</a:t>
            </a:r>
            <a:endParaRPr b="0" lang="en-US" sz="2600" spc="-1" strike="noStrike">
              <a:solidFill>
                <a:srgbClr val="000000"/>
              </a:solidFill>
              <a:latin typeface="Arial"/>
            </a:endParaRPr>
          </a:p>
          <a:p>
            <a:pPr lvl="1"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21:55:02Z</dcterms:created>
  <dc:creator>AcDean</dc:creator>
  <dc:description/>
  <dc:language>en-US</dc:language>
  <cp:lastModifiedBy>nschitrung@yahoo.com</cp:lastModifiedBy>
  <dcterms:modified xsi:type="dcterms:W3CDTF">2017-08-02T08:22:51Z</dcterms:modified>
  <cp:revision>388</cp:revision>
  <dc:subject/>
  <dc:title>Cognitive and neural correlates of denial in methamphetamine dependence</dc:title>
</cp:coreProperties>
</file>