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087D-07E3-4272-B8C8-F95F24C51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C: L amygdala, L hippocampus, R precentral; R temporal, L OFC; Precunues: R midbrain and cerebell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4091-0C77-41D9-8E57-AB60A25F0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C: L amygdala, L hippocampus, R precentral; R temporal, L OFC; Precunues: R midbrain and cerebell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AE21-68B1-40D6-8A38-39B151F81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91CE-8C06-411F-969D-3CA14F66D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ful psychostimulant. Looks like manic episode. Nasal passage damage, risk infection hep C or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0833-6277-4257-9C3F-09DB9409B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113B-D044-4D20-B207-100018628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arching goal to protect oneself from anxiety from self-identification as “out of control”, worthless add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7BB1-4782-496A-B76D-F101C54B4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CB11-3892-47D4-B921-ADB52AB1C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go/no-go task with two inhibit conditions (repeat word or stroop color violation). Pressed button twice on next go trial to indicate error aware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. Radioactive tracer into blood flow, emits gamma rays when goes into tissue. More blood flow to regions with greater metabolic dem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31B8-F714-42B7-A8D7-9EC92FFCC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D82F-DD2F-4C8F-9990-B08E46DF4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807F-70E1-45D1-9E6E-84715086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C90F2C-E7FD-42E8-8D90-58D243A7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6DA31-C584-4EB4-83D7-4B0AFAA4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91BA1-6FB9-4933-B3B8-96857668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FB29F-726A-41D5-9D21-79EE7709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03C75-2D12-420F-8E69-CB05C5F6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EDE9C-040B-4C1E-ABFD-B2065935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E5797-7FE1-4B47-9791-6DF5753A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88968-8EC0-4BB7-A6A5-A3FA149ED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96554-B04D-43D5-AE69-E180F9C50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E5663-D202-4AAC-A26B-AD409876B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5FC1-CDBC-445D-9DBA-F01FF23B6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5B2B5E-C17A-4B50-B461-838A173E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5B4A47-97CF-4405-A6FA-EC5B0C43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2EA92-6762-4AEF-9C51-5109D610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4AE879-176F-45AF-A830-2C119AC7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E8565-B9FE-4939-828D-E4012443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9F356-131B-47ED-99DE-1DFFA1E6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3323FA-3CE8-447A-936B-DFC59202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4C3A27-B279-4BF5-A7CC-0E869E26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C3CD17-A4BA-457A-A723-03E33F83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ADBCE1-6DC2-4287-858E-C99EE6AFB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9125-5FC5-4A45-BE8C-37D2A3E2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547E1-B95F-45AB-9054-077C57508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AD126-E44E-4EB5-A81E-31D2533F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912A8-1674-4567-956E-451CA5CA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417C4-4F55-4024-A053-7FF8D65B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B8F06-ECCF-4E35-9836-D31F517B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7DDC6-B285-4787-B4C3-119EAD36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49F4E-BD8B-47FC-8F21-93E5EA2D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9BB87-C931-4641-926B-6F3A5ED6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4796E-C3EE-4747-B1AA-7A57DAC7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A4567-B37B-412D-9319-91F372FD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4184-04DA-43AA-9028-E167E22FA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FD0D4-4067-4278-A2D1-26B29FEC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CD37C-CDD5-444C-B8E9-0715877AC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4CCBA-14CB-4E48-93B8-630C9F5FB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303E5F-F535-41F1-A7F7-50AF5A766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1F4420-BAF7-4332-BCB6-18B22E84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C5D27-E062-4EAC-A1BF-6FA9A9A8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3C2DF8-FD1A-4FD3-A4CE-F1B39DC9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101000-4324-4BBF-8F87-D0B0ACA1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27B5E3-2D63-4573-9F81-D480886E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D8552B-4DC4-4F65-A8F0-898CEA86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56ED2-A199-4FC2-9807-56A3A26E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12375E-7E04-4F4D-9BC4-5D576F9D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AFEBB6-F4C1-40AE-849D-98CCE211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2D302-9DDE-4BB8-B3C0-4143D23F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A75D95-220A-473A-91F7-8846C32D2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E32DBD-F7F2-4217-9DD3-AE78A22F7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DE8578-2648-4C27-A1C0-265F7B6B8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894008-CE6A-4B38-BFD3-14AEE857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EE569A-1134-4A1D-BBCB-DEE62BBB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2C7E30-63DF-40ED-AE9B-50B442C3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9B1DFC-2E8C-4DC4-9732-1F5010EF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C7B7-2E55-4A3C-BD72-89DEC3E3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4ACF42-896F-49F3-92D0-F52BE9A0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310144-CD01-4502-BA6A-EC5B0073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98408F-10BF-4A06-8603-E7A9848A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CE5CA1-D4AF-42D6-BE17-891B7441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1BAB77-E567-41E2-B3C5-58BA6F9D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6910FE-C621-4713-9722-C2D298055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CFE8D9-B662-4029-A431-F89C4496D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623B-7665-4A0F-B7F7-58FF5EDD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D6F2-18B6-485C-A172-4FDA5E2B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7252-C46C-4DDC-9FD3-D43C9AAA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2274-E538-4E0F-828B-D2260EA0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8D09-9739-496B-B498-66E814FF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7520-0E41-4179-A609-A711F7F8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420A-5204-45CA-B3F6-355FA904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FBEC-A3ED-43FD-A191-D97485D4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F7C8-DC62-4F1F-ABEC-15C4A8627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E62A-D8E3-4410-AFA3-823EB236B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DD068-E9DE-4605-B36C-BA9490DB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D7BCE-A878-4B9E-B6BC-F9608F24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A8322-1583-4853-A96B-7BADEA16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F8A8F-EB1E-48F5-9ACC-B3946F88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08097-E763-4FB0-A486-3B628B1D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F6CE-5F4A-48BF-A271-278E3EF7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54A13-E2F3-4A04-AE8C-51D1B614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D20EA-D903-435C-AB22-ABDCFCD6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C2C8B-1617-4BE7-AFD4-CE0A2C8D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BAE94-9A7C-419E-A156-002EC659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6DD98-16EF-4EF4-80AF-CFDA7931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4D82F-D4DE-4CEB-8162-988D1ABA6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16451-9DC7-4AC8-BB83-1F4FDAADE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EBA66-F0AA-413D-B1BC-6C6CF941D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3DFF7-D767-4529-A94C-E2DF86E1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E7E71-4667-42A3-A05B-1488A3B5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E7C8-774F-4B1C-8414-BA789D06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F19AC-9BA4-4D33-B45A-E47B0E49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7C2DE-8B1F-48A7-88BC-7F9F7AE5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4385B-5135-40C1-A5F2-ACB36D8F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08A8B-EE0F-4466-AE06-A68514A9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F6195-CBEF-4A88-88B4-CDEF232A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F80B7-B48E-41BF-87F0-8233D8E1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874E5-AB9C-4DBE-A61E-FF269992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94F1F-3BA5-45E3-BD39-BC99E9C82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9189A-FCD2-4F6B-AB51-951E40A74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47234-06AD-4F3D-8F27-76BBD2487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ED88-3558-446D-8104-17C50E0F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93778-1800-4DF2-A7CE-0D8398AA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4ECB0-014A-4B7B-89D9-91AD153F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4B4C2-6F66-48AD-A6C8-93215418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27170-BB52-4907-AB7B-CAFE9B70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F6E37-9537-474A-9538-B93223C4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CBE45-A112-4F02-A6F7-02125610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8B516-E017-46EC-A9C3-54D1B4FD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9CB9F-2EB1-4B63-977B-A1787611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1B83E-92A2-45D2-B79F-8BC26EB4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A3C31-16B1-4579-A64E-08F14703A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1807-AD02-47C8-A358-4D40281D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07825-0A2A-4B26-BFFB-B94E3AE29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D2496-365A-4EB4-8689-AF6A75351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7C7CB-B0B5-426B-8B33-EFCBEB21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B6542-9484-49EA-A8F3-D4888FA3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50E2F-ED42-4BD6-BF72-267A0AB7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07AC3-B0B1-44E3-ADAD-E3162405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C783F-C5CB-4CBE-9BF2-25FA692E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17B66-3B01-4372-A4E2-637DF403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2A5E1-6C98-44EF-A3E2-2BDA4B3E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C9694-6646-4FE7-85D5-139D5585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AB56-2FE7-4804-809E-CB4F06E1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51AAB-3135-489B-AEC6-89B30D83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329F9-6F79-44C4-90C2-F6BD0D1A9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CF669-112F-43BC-89B3-8759D15FC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06D6A-4B99-4BA1-B342-4EF389117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03B9A-2E2F-4225-BE75-8E1CB25F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18AB5-7735-4FE4-A595-53FD34B4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0ACE6-922C-4090-B357-009A24B7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DF608-7FCD-4086-8ED1-616CF76D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F8614-9A7E-4CC3-86EE-30EF660F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B95C8-67D7-49D8-8256-17B947A1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18D9-9D7D-4B79-A161-8A48C5B8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38615-BC2C-489F-8394-3C4EDA29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6C5B0-5486-4779-AB65-40FED2BE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FB3D1-04F3-4C0E-B862-D5E6FD1F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D5686-F916-4C2F-A8BC-B59EC4213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BE8B8-69CB-40BB-B377-229A5A2C0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77A66-B7B2-4B9B-94FE-89C41FA15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A7CC0-36D7-4773-9633-BBCA1296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24528-91CE-41F1-8743-9B9FB41E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B82A9-8EA1-439B-AFE6-8EAEE494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C119C-6447-49A4-A8BC-CCFEEA99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E8E4-9613-4C2B-93A1-9BE708C6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9F0BB-9756-4E85-ADB1-60A54153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CFAD8-93C5-4D72-A127-D43C0398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1F548-CE21-4061-BAB8-55F84B83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A1D42-0F24-4826-B142-775F498E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882D4-9C5C-43EF-B42C-1D396C21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77F2B-4273-42ED-8293-71C5584D4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395C6-2287-4543-A6EE-32069E3DE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1F298-AEE4-4B22-8C23-42E84A7B5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550585-4449-41F8-9F85-DF434D2A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B045AD-630E-4679-8A07-74214BD6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8B64-E028-432C-B6F1-4AB5B3C492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6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8CFE-F177-4365-9C35-527FAA7BE9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4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9556-E43A-451A-A6E4-D2B5C6F5B8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1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25D2-2537-4811-90DE-89309410C1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9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837F-983F-4B79-8E9C-7DE9FC90C1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CBF2-6E28-4EF3-9302-D41BEC6F42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064B-7833-4A91-A6AC-1DED67BB9F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2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2DF0-A28C-4931-9107-85C05C5BAF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9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6CF8-5D92-4639-9C83-237DA40A1B3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37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5972-04B7-4BFA-8463-7A7CC3849A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4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41C6-CD3E-403D-8340-CDD2C37123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A197-69B6-4C36-80C6-BF3BF4E3A5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9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22F0-98C5-4DDB-B952-9810A5EF3B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7848360" cy="183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Neural and cognitive contributions to denial in methamphetamine user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Dean, PhD, ABPP-C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e Clinical Prof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of Molecular Neuroimaging/Integrated Substance Abus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C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gnitive Batte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all cognitive battery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ing speed/atten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7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ails 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7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roop Word &amp; Col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7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git Symbol Coding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ing Mem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7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ackward Digit Spa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7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issing Digit Spa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rning/mem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7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lective Reminding Tes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7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peated Memory Test (picture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ive Functio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7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erbal Fluenc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7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cal Proble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7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crimination Lear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7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ails 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7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roop Color/Wor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4"/>
          <p:cNvSpPr/>
          <p:nvPr/>
        </p:nvSpPr>
        <p:spPr>
          <a:xfrm>
            <a:off x="6705720" y="3009960"/>
            <a:ext cx="199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5"/>
          <p:cNvSpPr/>
          <p:nvPr/>
        </p:nvSpPr>
        <p:spPr>
          <a:xfrm>
            <a:off x="6400800" y="5638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Dean et al.,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158760" y="447840"/>
            <a:ext cx="5952960" cy="117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MRI resting state connectivit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76320" y="765000"/>
            <a:ext cx="4876560" cy="15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Picture 2" descr="http://c431376.r76.cf2.rackcdn.com/16094/fpsyt-02-00073-HTML/image_m/fpsyt-02-00073-g002.jpg"/>
          <p:cNvPicPr/>
          <p:nvPr/>
        </p:nvPicPr>
        <p:blipFill>
          <a:blip r:embed="rId1"/>
          <a:srcRect l="691" t="3615" r="1362" b="71092"/>
          <a:stretch/>
        </p:blipFill>
        <p:spPr>
          <a:xfrm>
            <a:off x="154080" y="2735280"/>
            <a:ext cx="8778960" cy="2338200"/>
          </a:xfrm>
          <a:prstGeom prst="rect">
            <a:avLst/>
          </a:prstGeom>
          <a:ln w="0">
            <a:noFill/>
          </a:ln>
        </p:spPr>
      </p:pic>
      <p:sp>
        <p:nvSpPr>
          <p:cNvPr id="1002" name="TextBox 3"/>
          <p:cNvSpPr/>
          <p:nvPr/>
        </p:nvSpPr>
        <p:spPr>
          <a:xfrm>
            <a:off x="2971800" y="4952880"/>
            <a:ext cx="368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lation (each brain reg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Box 5"/>
          <p:cNvSpPr/>
          <p:nvPr/>
        </p:nvSpPr>
        <p:spPr>
          <a:xfrm>
            <a:off x="542880" y="23353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cuneus activ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Box 8"/>
          <p:cNvSpPr/>
          <p:nvPr/>
        </p:nvSpPr>
        <p:spPr>
          <a:xfrm>
            <a:off x="6529320" y="2335320"/>
            <a:ext cx="21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area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Content Placeholder 2"/>
          <p:cNvSpPr/>
          <p:nvPr/>
        </p:nvSpPr>
        <p:spPr>
          <a:xfrm>
            <a:off x="109440" y="54864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lvl="1" marL="622800" indent="-31284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estion: In which areas of the brain does denial relate to connectivity strength with the precuneu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6" name="Picture 5" descr="C:\Users\acdean\AppData\Local\Microsoft\Windows\Temporary Internet Files\Content.Outlook\80D0CY89\Screen shot 2014-02-21 at 4 51 34 PM.png"/>
          <p:cNvPicPr/>
          <p:nvPr/>
        </p:nvPicPr>
        <p:blipFill>
          <a:blip r:embed="rId2"/>
          <a:stretch/>
        </p:blipFill>
        <p:spPr>
          <a:xfrm>
            <a:off x="6781680" y="447840"/>
            <a:ext cx="2079720" cy="168876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2" descr="http://fmri.research.umich.edu/images/research_reconMeth.jpg"/>
          <p:cNvPicPr/>
          <p:nvPr/>
        </p:nvPicPr>
        <p:blipFill>
          <a:blip r:embed="rId3"/>
          <a:srcRect l="510" t="20884" r="67193" b="2197"/>
          <a:stretch/>
        </p:blipFill>
        <p:spPr>
          <a:xfrm>
            <a:off x="4800600" y="369720"/>
            <a:ext cx="185436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38088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RESULT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econtemplation and meth u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010" name=""/>
          <p:cNvGraphicFramePr/>
          <p:nvPr/>
        </p:nvGraphicFramePr>
        <p:xfrm>
          <a:off x="330120" y="2514600"/>
          <a:ext cx="8534520" cy="2986200"/>
        </p:xfrm>
        <a:graphic>
          <a:graphicData uri="http://schemas.openxmlformats.org/drawingml/2006/table">
            <a:tbl>
              <a:tblPr/>
              <a:tblGrid>
                <a:gridCol w="4267440"/>
                <a:gridCol w="4267080"/>
              </a:tblGrid>
              <a:tr h="870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h meas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contemp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ars of meth 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 = .26, p = .05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6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times arrested for drug offen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 Precontemplation = 0.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 Precontemplation = 2.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 = .045*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nial and overall cogni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012" name="Picture 8" descr=""/>
          <p:cNvPicPr/>
          <p:nvPr/>
        </p:nvPicPr>
        <p:blipFill>
          <a:blip r:embed="rId1"/>
          <a:stretch/>
        </p:blipFill>
        <p:spPr>
          <a:xfrm>
            <a:off x="-609480" y="1600200"/>
            <a:ext cx="7073640" cy="4400640"/>
          </a:xfrm>
          <a:prstGeom prst="rect">
            <a:avLst/>
          </a:prstGeom>
          <a:ln w="0">
            <a:noFill/>
          </a:ln>
        </p:spPr>
      </p:pic>
      <p:sp>
        <p:nvSpPr>
          <p:cNvPr id="1013" name="Text Box 7"/>
          <p:cNvSpPr/>
          <p:nvPr/>
        </p:nvSpPr>
        <p:spPr>
          <a:xfrm>
            <a:off x="4267080" y="205740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β=-0.425, t(57)=-3.513, p=0.001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Box 1"/>
          <p:cNvSpPr/>
          <p:nvPr/>
        </p:nvSpPr>
        <p:spPr>
          <a:xfrm>
            <a:off x="6248520" y="609588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n et al.,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nial and cognitive domai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304920" y="1719360"/>
            <a:ext cx="8686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β=-0.392, p=0.007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ecutive functio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β=-0.327, p=0.011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ttentio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β=-0.231, p=0.0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Working memory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β =-0.155, p=0.40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56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nial and rACC connectivit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8" name="TextBox 8"/>
          <p:cNvSpPr/>
          <p:nvPr/>
        </p:nvSpPr>
        <p:spPr>
          <a:xfrm>
            <a:off x="5067360" y="64342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&lt; .016, whole-brain corr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9" name="Picture 9" descr=""/>
          <p:cNvPicPr/>
          <p:nvPr/>
        </p:nvPicPr>
        <p:blipFill>
          <a:blip r:embed="rId1"/>
          <a:srcRect l="0" t="0" r="0" b="49680"/>
          <a:stretch/>
        </p:blipFill>
        <p:spPr>
          <a:xfrm>
            <a:off x="228600" y="1219320"/>
            <a:ext cx="8504280" cy="2948040"/>
          </a:xfrm>
          <a:prstGeom prst="rect">
            <a:avLst/>
          </a:prstGeom>
          <a:ln w="0">
            <a:noFill/>
          </a:ln>
        </p:spPr>
      </p:pic>
      <p:sp>
        <p:nvSpPr>
          <p:cNvPr id="1020" name="TextBox 6"/>
          <p:cNvSpPr/>
          <p:nvPr/>
        </p:nvSpPr>
        <p:spPr>
          <a:xfrm>
            <a:off x="380880" y="4343400"/>
            <a:ext cx="7315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ater denial, less connectivity between rACC a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ft amygd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ft hippocamp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ft orbitofrontal cort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ght precentral cort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856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nial and precuneus connectivit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2" name="TextBox 8"/>
          <p:cNvSpPr/>
          <p:nvPr/>
        </p:nvSpPr>
        <p:spPr>
          <a:xfrm>
            <a:off x="5067360" y="64342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&lt; .016, whole-brain corr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3" name="Picture 9" descr=""/>
          <p:cNvPicPr/>
          <p:nvPr/>
        </p:nvPicPr>
        <p:blipFill>
          <a:blip r:embed="rId1"/>
          <a:srcRect l="0" t="49992" r="0" b="3558"/>
          <a:stretch/>
        </p:blipFill>
        <p:spPr>
          <a:xfrm>
            <a:off x="365040" y="1981080"/>
            <a:ext cx="7956720" cy="2546640"/>
          </a:xfrm>
          <a:prstGeom prst="rect">
            <a:avLst/>
          </a:prstGeom>
          <a:ln w="0">
            <a:noFill/>
          </a:ln>
        </p:spPr>
      </p:pic>
      <p:sp>
        <p:nvSpPr>
          <p:cNvPr id="1024" name="TextBox 12"/>
          <p:cNvSpPr/>
          <p:nvPr/>
        </p:nvSpPr>
        <p:spPr>
          <a:xfrm>
            <a:off x="380880" y="5869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rior insula: 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Box 7"/>
          <p:cNvSpPr/>
          <p:nvPr/>
        </p:nvSpPr>
        <p:spPr>
          <a:xfrm>
            <a:off x="457200" y="464832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ater denial, less connectivity between precuneus a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ght midb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rebell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mm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nial associated with worse cognition, esp. in memory and executive fun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nial associated with less connectivity between brain regions important for insight, emotion, reward and decision-mak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gnitive and neural function may contribute to a lack of insight into the addictive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nical implic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ortance of motivation to chan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ider cognitive limit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 need help to recognize probl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 need reminders of previous discus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thamphetamine (Meth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457200" y="1719000"/>
            <a:ext cx="8229600" cy="48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ut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phoria and conf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focus and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d sleep and appet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lucinations, de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nic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drawal (e.g., depression, fatigue, crav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, cardiovascular r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 of self-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6840" y="19051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ank you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380880" y="22096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H/N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ky Kohno, Ph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ydie London, Ph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ie Morales, Ph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ra Ghahremani, Ph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2"/>
          <p:cNvSpPr/>
          <p:nvPr/>
        </p:nvSpPr>
        <p:spPr>
          <a:xfrm>
            <a:off x="304920" y="838080"/>
            <a:ext cx="7543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Dean, Kohno, Morales, Ghahremani &amp; London (2015). </a:t>
            </a:r>
            <a:r>
              <a:rPr b="1" i="1" lang="en-US" sz="2000" spc="-1" strike="noStrike">
                <a:solidFill>
                  <a:srgbClr val="330066"/>
                </a:solidFill>
                <a:latin typeface="Arial"/>
              </a:rPr>
              <a:t>Drug &amp; Alcohol Dependence</a:t>
            </a: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, 151, 84-9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 why don’t users quit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want to quit, but feel out of contr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do not want to quit or are ambival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ni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~ 10% receive treatment (SAMHSA, 200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nial as a psychodynamic proces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end self-concept from negativ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ddicts can’t hold a job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y friend drinks more than I do, so I’m fin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nial as reduced insig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urocognitive difficulty in self-refl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ain damage can impair self-ref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ain regions implicated in addiction also important for insigh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, Goldstein et al.,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u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terior cingulate cortex (AC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cune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Marijuana abusers awareness of errors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Picture 4" descr=""/>
          <p:cNvPicPr/>
          <p:nvPr/>
        </p:nvPicPr>
        <p:blipFill>
          <a:blip r:embed="rId1"/>
          <a:srcRect l="42745" t="22260" r="4499" b="19843"/>
          <a:stretch/>
        </p:blipFill>
        <p:spPr>
          <a:xfrm>
            <a:off x="2133720" y="1447920"/>
            <a:ext cx="5403600" cy="4622760"/>
          </a:xfrm>
          <a:prstGeom prst="rect">
            <a:avLst/>
          </a:prstGeom>
          <a:ln w="0">
            <a:noFill/>
          </a:ln>
        </p:spPr>
      </p:pic>
      <p:sp>
        <p:nvSpPr>
          <p:cNvPr id="983" name="Text Box 5"/>
          <p:cNvSpPr/>
          <p:nvPr/>
        </p:nvSpPr>
        <p:spPr>
          <a:xfrm>
            <a:off x="1143000" y="26067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ins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Text Box 6"/>
          <p:cNvSpPr/>
          <p:nvPr/>
        </p:nvSpPr>
        <p:spPr>
          <a:xfrm>
            <a:off x="76320" y="44164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erior cingu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Text Box 7"/>
          <p:cNvSpPr/>
          <p:nvPr/>
        </p:nvSpPr>
        <p:spPr>
          <a:xfrm>
            <a:off x="7257960" y="59436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ster et al.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sight in schizophren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987" name="Picture 2" descr="An external file that holds a picture, illustration, etc.&#10;Object name is pg297f1.jpg"/>
          <p:cNvPicPr/>
          <p:nvPr/>
        </p:nvPicPr>
        <p:blipFill>
          <a:blip r:embed="rId1"/>
          <a:srcRect l="32462" t="0" r="354" b="0"/>
          <a:stretch/>
        </p:blipFill>
        <p:spPr>
          <a:xfrm>
            <a:off x="3624120" y="1981080"/>
            <a:ext cx="4480200" cy="4038840"/>
          </a:xfrm>
          <a:prstGeom prst="rect">
            <a:avLst/>
          </a:prstGeom>
          <a:ln w="0">
            <a:noFill/>
          </a:ln>
        </p:spPr>
      </p:pic>
      <p:sp>
        <p:nvSpPr>
          <p:cNvPr id="988" name="TextBox 3"/>
          <p:cNvSpPr/>
          <p:nvPr/>
        </p:nvSpPr>
        <p:spPr>
          <a:xfrm>
            <a:off x="304920" y="63244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CBF high (N = 21) &gt; low insight (N = 10)                 Faget-Agius et al.,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Right Arrow 4"/>
          <p:cNvSpPr/>
          <p:nvPr/>
        </p:nvSpPr>
        <p:spPr>
          <a:xfrm>
            <a:off x="3048120" y="2209680"/>
            <a:ext cx="121896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Box 5"/>
          <p:cNvSpPr/>
          <p:nvPr/>
        </p:nvSpPr>
        <p:spPr>
          <a:xfrm>
            <a:off x="1600200" y="214164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un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th and denia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8 participants current Meth depen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ypothesis 1: Denial and cognition will be negatively rela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ypothesis 2: Denial will be negatively related to brain connectivity of regions important for insight (ant. insula, rACC, precuneus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nial measure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contemplation Scale (URIC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far as I’m concerned, I don’t have any problems that need changing”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’m not the problem one; it doesn’t make much sense for me to consider chang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21:55:02Z</dcterms:created>
  <dc:creator>AcDean</dc:creator>
  <dc:description/>
  <dc:language>en-US</dc:language>
  <cp:lastModifiedBy>SVHATTC</cp:lastModifiedBy>
  <dcterms:modified xsi:type="dcterms:W3CDTF">2017-07-27T09:06:33Z</dcterms:modified>
  <cp:revision>316</cp:revision>
  <dc:subject/>
  <dc:title>Cognitive and neural correlates of denial in methamphetamine dependence</dc:title>
</cp:coreProperties>
</file>