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D65A-3599-4509-B2C4-87E6B5996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CE8-A513-4EC2-BB9D-C689EFAD9D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C426-A6E7-4777-AE26-17D88C110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0A4-EEE5-4F83-A06B-826019EFF1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E82C-9E9C-4F4B-9AC8-9F7B51858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6D24-AC66-4B16-BCE9-771EC7AB47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3AA1-DA21-4CA6-B7DC-67A79D1A1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0B30-38D0-48F9-9392-96E2C0997D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9FD1-6BA6-4AD7-B4B5-D6CC49081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7FA9-6699-4CA6-9F94-94EE03582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1F1-0CAB-4B75-9F8D-EC549D54EB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157-5415-4E43-923C-42F60EFB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305-64DD-494F-A4FB-14DF6E3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341-E2CA-46D5-9D6F-BD8D77F9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374-7249-4164-819C-56CD6B44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581-BAD7-4729-9899-D66B73B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6B2-CFD2-42D3-8591-3198D9C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5D6-1EA5-462F-8062-06194F09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11E-9A4E-4F36-B457-D99179EB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7A6-7A6D-4F53-9933-F05DB88E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C80-6F1C-409A-A7FE-BA90D051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967-742B-4CAD-A7C3-F6FDBA59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CA6-3BDD-497B-B607-FD7AE73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6FC-3CA3-4C77-9931-2304F11B6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ffective Community-based Treatment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High-risk ATS Us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819520"/>
            <a:ext cx="85341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hy J. Reback, Ph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iends Research Institute, In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CLA Integrated Substance Abuse Program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mel Institute for Neuroscience and Human Behavi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CLA Center for HIV Identification, Prevention and Treatment Serv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17400" y="548640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th Substance Use Disorder and HIV Conference in Vietna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 Chi Minh City, August 3-5, 2017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-intensity Harm Reduction Interven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991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eet Out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le Exchange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tivational Intervie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kills Building &amp; Support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reening, Brief Intervention and Referral to Treatment (SBI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 A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http://www.berkeleyneed.org/images/van_side_med.jpg"/>
          <p:cNvPicPr/>
          <p:nvPr/>
        </p:nvPicPr>
        <p:blipFill>
          <a:blip r:embed="rId1"/>
          <a:stretch/>
        </p:blipFill>
        <p:spPr>
          <a:xfrm>
            <a:off x="762120" y="4257720"/>
            <a:ext cx="41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Robby conducting outreach"/>
          <p:cNvPicPr/>
          <p:nvPr/>
        </p:nvPicPr>
        <p:blipFill>
          <a:blip r:embed="rId2"/>
          <a:stretch/>
        </p:blipFill>
        <p:spPr>
          <a:xfrm>
            <a:off x="5562720" y="4303800"/>
            <a:ext cx="30985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tivational Interviewing (MI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change their thinking and behavior according to a series of stages (Prochaska and DiClemente, 198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s may enter treatment at differ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s of cha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possible to influence the natural change process with MI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can be used to engage individuals in longer term treatment and to promote specific behavior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rontation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counterproductive and/or harmful to some individu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ief Intervention – 5 A’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1295280"/>
          <a:ext cx="8001000" cy="4208760"/>
        </p:xfrm>
        <a:graphic>
          <a:graphicData uri="http://schemas.openxmlformats.org/drawingml/2006/table">
            <a:tbl>
              <a:tblPr/>
              <a:tblGrid>
                <a:gridCol w="1803240"/>
                <a:gridCol w="61977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lement a system that ensures that at every patient/participant visit ATS use is questioned and documente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vi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 a clear, strong, and personalized manner, urge every patient/participant to qui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k every ATS user if s/he is willing to make a quit attempt now (next 30 days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i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p the patient/participant plan, provide practical counseling, recommend medications, be suppor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 for follow-up support, phone ca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27"/>
          <p:cNvSpPr/>
          <p:nvPr/>
        </p:nvSpPr>
        <p:spPr>
          <a:xfrm>
            <a:off x="228600" y="6324480"/>
            <a:ext cx="92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ed from Fiore et al., 2000, Clinical Practice Guidelines for Smoking Ces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372600" cy="36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id-intensit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ventions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Contingency Manage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3" descr="URIN063"/>
          <p:cNvPicPr/>
          <p:nvPr/>
        </p:nvPicPr>
        <p:blipFill>
          <a:blip r:embed="rId1"/>
          <a:stretch/>
        </p:blipFill>
        <p:spPr>
          <a:xfrm>
            <a:off x="2286000" y="1981080"/>
            <a:ext cx="4024440" cy="301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BS00508_"/>
          <p:cNvPicPr/>
          <p:nvPr/>
        </p:nvPicPr>
        <p:blipFill>
          <a:blip r:embed="rId2"/>
          <a:stretch/>
        </p:blipFill>
        <p:spPr>
          <a:xfrm>
            <a:off x="4800600" y="49528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S00508_"/>
          <p:cNvPicPr/>
          <p:nvPr/>
        </p:nvPicPr>
        <p:blipFill>
          <a:blip r:embed="rId3"/>
          <a:stretch/>
        </p:blipFill>
        <p:spPr>
          <a:xfrm>
            <a:off x="2209680" y="449568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S00508_"/>
          <p:cNvPicPr/>
          <p:nvPr/>
        </p:nvPicPr>
        <p:blipFill>
          <a:blip r:embed="rId4"/>
          <a:stretch/>
        </p:blipFill>
        <p:spPr>
          <a:xfrm>
            <a:off x="3886200" y="449568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BS00508_"/>
          <p:cNvPicPr/>
          <p:nvPr/>
        </p:nvPicPr>
        <p:blipFill>
          <a:blip r:embed="rId5"/>
          <a:stretch/>
        </p:blipFill>
        <p:spPr>
          <a:xfrm>
            <a:off x="3962520" y="48769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BS00508_"/>
          <p:cNvPicPr/>
          <p:nvPr/>
        </p:nvPicPr>
        <p:blipFill>
          <a:blip r:embed="rId6"/>
          <a:stretch/>
        </p:blipFill>
        <p:spPr>
          <a:xfrm>
            <a:off x="2514600" y="4876920"/>
            <a:ext cx="1574640" cy="1662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BS00508_"/>
          <p:cNvPicPr/>
          <p:nvPr/>
        </p:nvPicPr>
        <p:blipFill>
          <a:blip r:embed="rId7"/>
          <a:stretch/>
        </p:blipFill>
        <p:spPr>
          <a:xfrm>
            <a:off x="3200400" y="434340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ingency Management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nd alcohol behavior can be modified using operant reinforcement procedures (reinforcement must be immedi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uchers can be used as a “stand in” for money or g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uchers should be applied to any pro-social and healthy items that are incompatible with drug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alating  value of the reinforcer for continuous abstinence promotes better performance; rapid reset following relapse is cri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seling/therapy may or may not be required in conjunction with Contingency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372600" cy="36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gh-intensity Interventions and Treatment Strategies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gnitive Behavior Therapy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s cognitive aspects of ATS use as learned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cognitions in abstinence (e.g., behavior change, learn new skills, understand triggers and crav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is a teaching process, coaching and reinforcing; therapist is a teacher/c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ssumption of underlying psychopath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, alternative behaviors must be established (e.g., develop self-efficacy for new behavi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delivered in group or individual sett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nsive Outpatient and Residenti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21200" indent="-720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uld be grounded in evidence-based interven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21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321200" indent="-720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sychosocial and Behavioral Thera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5760" indent="-382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gnitive Behavioral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5760" indent="-382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ingency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05760" indent="-382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-step Facil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21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321200" indent="-720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chnology-based Interventions Can Be Coupled with Other Therapies to Optimize Treatment 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ensive Outpatient and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idential Treat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5" descr="VNRH Meeting Room"/>
          <p:cNvPicPr/>
          <p:nvPr/>
        </p:nvPicPr>
        <p:blipFill>
          <a:blip r:embed="rId1"/>
          <a:stretch/>
        </p:blipFill>
        <p:spPr>
          <a:xfrm>
            <a:off x="4572000" y="2209680"/>
            <a:ext cx="4343400" cy="3262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Cathy\Documents\Dr. Reback 11 10 11\My Pictures\Friends Community Center_Mar09\Friends_La_Brea_66.jpg"/>
          <p:cNvPicPr/>
          <p:nvPr/>
        </p:nvPicPr>
        <p:blipFill>
          <a:blip r:embed="rId2"/>
          <a:stretch/>
        </p:blipFill>
        <p:spPr>
          <a:xfrm>
            <a:off x="538200" y="1219320"/>
            <a:ext cx="380520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D:\CJR 041817\Pictures\Friends Community Center_Mar09\Friends_La_Brea_41.jpg"/>
          <p:cNvPicPr/>
          <p:nvPr/>
        </p:nvPicPr>
        <p:blipFill>
          <a:blip r:embed="rId3"/>
          <a:stretch/>
        </p:blipFill>
        <p:spPr>
          <a:xfrm>
            <a:off x="457200" y="3962520"/>
            <a:ext cx="38862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39152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 Use Disorder Spec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Community-based Trea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-intensity interven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d-intensity interven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74304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igh-intensity Interventions and Treatment Strateg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Model Recove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640" y="1294920"/>
            <a:ext cx="8991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27440" indent="-127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12-step concepts of Alcoholics Anonym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7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27440" indent="-127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model programs emphasize the process of learning through doing and experiencing and providing positive role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7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27440" indent="-127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model programs are cost effective and outcome effective because of their ability to build strong and lasting social support systems, and their saturation in every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7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2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logo"/>
          <p:cNvPicPr/>
          <p:nvPr/>
        </p:nvPicPr>
        <p:blipFill>
          <a:blip r:embed="rId1"/>
          <a:stretch/>
        </p:blipFill>
        <p:spPr>
          <a:xfrm>
            <a:off x="2057400" y="4473720"/>
            <a:ext cx="2057400" cy="220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105520" y="4473720"/>
            <a:ext cx="18158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1800" y="23270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593640" y="792000"/>
            <a:ext cx="3978360" cy="1191240"/>
            <a:chOff x="593640" y="792000"/>
            <a:chExt cx="3978360" cy="1191240"/>
          </a:xfrm>
        </p:grpSpPr>
        <p:sp>
          <p:nvSpPr>
            <p:cNvPr id="141" name="Text Box 5"/>
            <p:cNvSpPr/>
            <p:nvPr/>
          </p:nvSpPr>
          <p:spPr>
            <a:xfrm>
              <a:off x="593640" y="118080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to interve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3808440" y="792000"/>
              <a:ext cx="76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4876920" y="792000"/>
            <a:ext cx="3777840" cy="1191240"/>
            <a:chOff x="4876920" y="792000"/>
            <a:chExt cx="3777840" cy="1191240"/>
          </a:xfrm>
        </p:grpSpPr>
        <p:sp>
          <p:nvSpPr>
            <p:cNvPr id="144" name="Text Box 8"/>
            <p:cNvSpPr/>
            <p:nvPr/>
          </p:nvSpPr>
          <p:spPr>
            <a:xfrm>
              <a:off x="4876920" y="1198440"/>
              <a:ext cx="365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w to interve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7891560" y="792000"/>
              <a:ext cx="76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"/>
          <p:cNvSpPr/>
          <p:nvPr/>
        </p:nvSpPr>
        <p:spPr>
          <a:xfrm>
            <a:off x="345960" y="2209680"/>
            <a:ext cx="86108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s for reducing ATS use can range from prevention/harm reduction to outpatient and residential mod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the user where they are at, i.e., treatment seeking, non-treatment see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a continuum of culturally appropriate interventions for out-of treatment users and treatment options for treatment-seeking ATS users should be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43160" y="2733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back@friendsresearch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ank you!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SM-5 Definition: Substance Use Disord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228600" y="990720"/>
            <a:ext cx="9118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439200" indent="-43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adaptive pattern of use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nically significant impairment or dist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2+ of the following in the same 12-month perio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39200" indent="-439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le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longer periods than inten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’t cut down or q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spent getting, using or recov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 up social, work or fun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ving or a strong desire or urge to use a sub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d use despite knowledge of negative consequ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to fulfill major role oblig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 physically hazardous 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5380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d use despite social and interpersonal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457200" y="59961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rity modifiers: 2-3 = mild; 4-5 = moderate; 6+ = sev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ular Callout 17"/>
          <p:cNvSpPr/>
          <p:nvPr/>
        </p:nvSpPr>
        <p:spPr>
          <a:xfrm rot="10800000">
            <a:off x="7332480" y="4362120"/>
            <a:ext cx="1236600" cy="1181160"/>
          </a:xfrm>
          <a:prstGeom prst="wedgeRectCallout">
            <a:avLst>
              <a:gd name="adj1" fmla="val -21518"/>
              <a:gd name="adj2" fmla="val 79685"/>
            </a:avLst>
          </a:prstGeom>
          <a:solidFill>
            <a:srgbClr val="4040ff">
              <a:alpha val="72000"/>
            </a:srgbClr>
          </a:solidFill>
          <a:ln w="25560">
            <a:solidFill>
              <a:srgbClr val="00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efinitions of a Spectrum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ubstance Use to Substance Use Disord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38080" y="2351160"/>
            <a:ext cx="7586640" cy="3301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33520" y="2666880"/>
            <a:ext cx="309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344b"/>
                </a:solidFill>
                <a:latin typeface="Arial"/>
                <a:ea typeface="Arial"/>
              </a:rPr>
              <a:t>No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344b"/>
                </a:solidFill>
                <a:latin typeface="Arial"/>
                <a:ea typeface="Arial"/>
              </a:rPr>
              <a:t>or use that does not cause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Straight Connector 7"/>
          <p:cNvSpPr/>
          <p:nvPr/>
        </p:nvSpPr>
        <p:spPr>
          <a:xfrm>
            <a:off x="4343400" y="3176640"/>
            <a:ext cx="0" cy="1839960"/>
          </a:xfrm>
          <a:prstGeom prst="line">
            <a:avLst/>
          </a:prstGeom>
          <a:ln w="25560">
            <a:solidFill>
              <a:srgbClr val="00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267080" y="3429000"/>
            <a:ext cx="19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f"/>
                </a:solidFill>
                <a:latin typeface="Arial"/>
                <a:ea typeface="Arial"/>
              </a:rPr>
              <a:t>Occasional use causes problems occasionally to frequen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Straight Connector 9"/>
          <p:cNvSpPr/>
          <p:nvPr/>
        </p:nvSpPr>
        <p:spPr>
          <a:xfrm>
            <a:off x="6889680" y="3673440"/>
            <a:ext cx="1535040" cy="328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Straight Connector 11"/>
          <p:cNvSpPr/>
          <p:nvPr/>
        </p:nvSpPr>
        <p:spPr>
          <a:xfrm flipV="1">
            <a:off x="6858000" y="3984120"/>
            <a:ext cx="1533600" cy="358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Straight Connector 12"/>
          <p:cNvSpPr/>
          <p:nvPr/>
        </p:nvSpPr>
        <p:spPr>
          <a:xfrm>
            <a:off x="6889680" y="3657600"/>
            <a:ext cx="0" cy="70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Callout 1 14"/>
          <p:cNvSpPr/>
          <p:nvPr/>
        </p:nvSpPr>
        <p:spPr>
          <a:xfrm>
            <a:off x="5943600" y="2325600"/>
            <a:ext cx="1314360" cy="1103400"/>
          </a:xfrm>
          <a:prstGeom prst="borderCallout1">
            <a:avLst>
              <a:gd name="adj1" fmla="val 18750"/>
              <a:gd name="adj2" fmla="val -8333"/>
              <a:gd name="adj3" fmla="val 96837"/>
              <a:gd name="adj4" fmla="val 88504"/>
            </a:avLst>
          </a:prstGeom>
          <a:solidFill>
            <a:srgbClr val="0000d5">
              <a:alpha val="69000"/>
            </a:srgbClr>
          </a:solidFill>
          <a:ln w="25560">
            <a:solidFill>
              <a:srgbClr val="0000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d to Moderate 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7848720" y="3886200"/>
            <a:ext cx="0" cy="274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7397640" y="4527720"/>
            <a:ext cx="110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vere S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7772400" y="1447920"/>
            <a:ext cx="1020600" cy="2315880"/>
          </a:xfrm>
          <a:prstGeom prst="rect">
            <a:avLst/>
          </a:prstGeom>
          <a:solidFill>
            <a:srgbClr val="ff0000">
              <a:alpha val="78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22"/>
          <p:cNvSpPr/>
          <p:nvPr/>
        </p:nvSpPr>
        <p:spPr>
          <a:xfrm rot="16200000">
            <a:off x="7209720" y="2314800"/>
            <a:ext cx="21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dd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Continuum of Strategies That Respond to a Spectrum of U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1800" y="23270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j0234752"/>
          <p:cNvPicPr/>
          <p:nvPr/>
        </p:nvPicPr>
        <p:blipFill>
          <a:blip r:embed="rId1"/>
          <a:stretch/>
        </p:blipFill>
        <p:spPr>
          <a:xfrm>
            <a:off x="536400" y="4038480"/>
            <a:ext cx="1360800" cy="1521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292480" y="3772080"/>
            <a:ext cx="19047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asional 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92480" y="4305240"/>
            <a:ext cx="19047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d 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292480" y="4800600"/>
            <a:ext cx="19047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rate 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92480" y="5338800"/>
            <a:ext cx="19047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re SU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9" descr="j0234752"/>
          <p:cNvPicPr/>
          <p:nvPr/>
        </p:nvPicPr>
        <p:blipFill>
          <a:blip r:embed="rId2"/>
          <a:stretch/>
        </p:blipFill>
        <p:spPr>
          <a:xfrm>
            <a:off x="4876920" y="4041720"/>
            <a:ext cx="1360440" cy="1521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"/>
          <p:cNvSpPr/>
          <p:nvPr/>
        </p:nvSpPr>
        <p:spPr>
          <a:xfrm>
            <a:off x="6818400" y="3276720"/>
            <a:ext cx="190476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 / Harm Re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9" name="AutoShape 11"/>
          <p:cNvCxnSpPr>
            <a:endCxn id="78" idx="1"/>
          </p:cNvCxnSpPr>
          <p:nvPr/>
        </p:nvCxnSpPr>
        <p:spPr>
          <a:xfrm flipV="1">
            <a:off x="6237360" y="3601440"/>
            <a:ext cx="581400" cy="120060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80" name="Text Box 12"/>
          <p:cNvSpPr/>
          <p:nvPr/>
        </p:nvSpPr>
        <p:spPr>
          <a:xfrm>
            <a:off x="6818400" y="4191120"/>
            <a:ext cx="190476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ly / Brief Interv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821640" y="5033880"/>
            <a:ext cx="19047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 Inten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821640" y="5562720"/>
            <a:ext cx="19047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ug Trea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821640" y="6100920"/>
            <a:ext cx="190476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patient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iden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4" name="AutoShape 16"/>
          <p:cNvCxnSpPr>
            <a:endCxn id="80" idx="1"/>
          </p:cNvCxnSpPr>
          <p:nvPr/>
        </p:nvCxnSpPr>
        <p:spPr>
          <a:xfrm flipV="1">
            <a:off x="6237360" y="4515840"/>
            <a:ext cx="581400" cy="28620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85" name="AutoShape 17"/>
          <p:cNvCxnSpPr>
            <a:endCxn id="81" idx="1"/>
          </p:cNvCxnSpPr>
          <p:nvPr/>
        </p:nvCxnSpPr>
        <p:spPr>
          <a:xfrm>
            <a:off x="6237000" y="4801680"/>
            <a:ext cx="585000" cy="42156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86" name="AutoShape 18"/>
          <p:cNvCxnSpPr>
            <a:endCxn id="82" idx="1"/>
          </p:cNvCxnSpPr>
          <p:nvPr/>
        </p:nvCxnSpPr>
        <p:spPr>
          <a:xfrm>
            <a:off x="6237000" y="4801680"/>
            <a:ext cx="585000" cy="95004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87" name="AutoShape 19"/>
          <p:cNvCxnSpPr>
            <a:endCxn id="83" idx="1"/>
          </p:cNvCxnSpPr>
          <p:nvPr/>
        </p:nvCxnSpPr>
        <p:spPr>
          <a:xfrm>
            <a:off x="6237000" y="4801680"/>
            <a:ext cx="585000" cy="162324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88" name="AutoShape 20"/>
          <p:cNvCxnSpPr>
            <a:endCxn id="73" idx="1"/>
          </p:cNvCxnSpPr>
          <p:nvPr/>
        </p:nvCxnSpPr>
        <p:spPr>
          <a:xfrm flipV="1">
            <a:off x="1897200" y="3960000"/>
            <a:ext cx="396000" cy="83916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89" name="AutoShape 21"/>
          <p:cNvCxnSpPr>
            <a:endCxn id="74" idx="1"/>
          </p:cNvCxnSpPr>
          <p:nvPr/>
        </p:nvCxnSpPr>
        <p:spPr>
          <a:xfrm flipV="1">
            <a:off x="1897200" y="4493520"/>
            <a:ext cx="396000" cy="30564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90" name="AutoShape 22"/>
          <p:cNvCxnSpPr>
            <a:endCxn id="75" idx="1"/>
          </p:cNvCxnSpPr>
          <p:nvPr/>
        </p:nvCxnSpPr>
        <p:spPr>
          <a:xfrm>
            <a:off x="1897200" y="4798800"/>
            <a:ext cx="396000" cy="19116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91" name="AutoShape 23"/>
          <p:cNvCxnSpPr>
            <a:endCxn id="76" idx="1"/>
          </p:cNvCxnSpPr>
          <p:nvPr/>
        </p:nvCxnSpPr>
        <p:spPr>
          <a:xfrm>
            <a:off x="1897200" y="4799160"/>
            <a:ext cx="396000" cy="729360"/>
          </a:xfrm>
          <a:prstGeom prst="straightConnector1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grpSp>
        <p:nvGrpSpPr>
          <p:cNvPr id="92" name="Group 24"/>
          <p:cNvGrpSpPr/>
          <p:nvPr/>
        </p:nvGrpSpPr>
        <p:grpSpPr>
          <a:xfrm>
            <a:off x="291960" y="1749600"/>
            <a:ext cx="3978360" cy="1191240"/>
            <a:chOff x="291960" y="1749600"/>
            <a:chExt cx="3978360" cy="1191240"/>
          </a:xfrm>
        </p:grpSpPr>
        <p:sp>
          <p:nvSpPr>
            <p:cNvPr id="93" name="Text Box 25"/>
            <p:cNvSpPr/>
            <p:nvPr/>
          </p:nvSpPr>
          <p:spPr>
            <a:xfrm>
              <a:off x="291960" y="2138400"/>
              <a:ext cx="31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to interve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Text Box 26"/>
            <p:cNvSpPr/>
            <p:nvPr/>
          </p:nvSpPr>
          <p:spPr>
            <a:xfrm>
              <a:off x="3506760" y="1749600"/>
              <a:ext cx="76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Group 27"/>
          <p:cNvGrpSpPr/>
          <p:nvPr/>
        </p:nvGrpSpPr>
        <p:grpSpPr>
          <a:xfrm>
            <a:off x="4775040" y="1762200"/>
            <a:ext cx="3778560" cy="1191240"/>
            <a:chOff x="4775040" y="1762200"/>
            <a:chExt cx="3778560" cy="1191240"/>
          </a:xfrm>
        </p:grpSpPr>
        <p:sp>
          <p:nvSpPr>
            <p:cNvPr id="96" name="Text Box 28"/>
            <p:cNvSpPr/>
            <p:nvPr/>
          </p:nvSpPr>
          <p:spPr>
            <a:xfrm>
              <a:off x="4775040" y="2168640"/>
              <a:ext cx="365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w to interve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Text Box 29"/>
            <p:cNvSpPr/>
            <p:nvPr/>
          </p:nvSpPr>
          <p:spPr>
            <a:xfrm>
              <a:off x="7790040" y="1762200"/>
              <a:ext cx="76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l Interventions Should be Culturally Appropriate and Responsive to the Population 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372600" cy="36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w-intensity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ervention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rm Reduc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can lower their harm/risk without abstin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 Advocates/Outreach Workers can serve 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mod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ssumptions/judgment about 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ability or inability to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with individual to move toward behavior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 is evaluated by incremental behavior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-intensity Interventions Can be Delivered in Community-based Organizations, Medical Settings, Public Health Clinics, and on the Stree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4" descr="DSC01157"/>
          <p:cNvPicPr/>
          <p:nvPr/>
        </p:nvPicPr>
        <p:blipFill>
          <a:blip r:embed="rId1"/>
          <a:stretch/>
        </p:blipFill>
        <p:spPr>
          <a:xfrm>
            <a:off x="685800" y="2666880"/>
            <a:ext cx="4267080" cy="319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s://encrypted-tbn1.gstatic.com/images?q=tbn:ANd9GcR8xEfFbZ_AoSlcDveMjkyiicO3HFq9_DTRmJAlQVGsdrT6cnbD8A"/>
          <p:cNvPicPr/>
          <p:nvPr/>
        </p:nvPicPr>
        <p:blipFill>
          <a:blip r:embed="rId2"/>
          <a:stretch/>
        </p:blipFill>
        <p:spPr>
          <a:xfrm>
            <a:off x="5562720" y="2665440"/>
            <a:ext cx="3073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8:17:32Z</dcterms:created>
  <dc:creator>Steve Shoptaw</dc:creator>
  <dc:description/>
  <dc:language>en-US</dc:language>
  <cp:lastModifiedBy>SVHATTC</cp:lastModifiedBy>
  <cp:lastPrinted>2014-08-08T01:08:10Z</cp:lastPrinted>
  <dcterms:modified xsi:type="dcterms:W3CDTF">2017-07-28T07:46:20Z</dcterms:modified>
  <cp:revision>246</cp:revision>
  <dc:subject/>
  <dc:title>Substance Use Treatment, Including Office-based Administration of Buprenorphine</dc:title>
</cp:coreProperties>
</file>