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A258-211A-4117-94CF-BE24AC8E6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Có nghĩa là tại quận đó có chương trình Metha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DC83-F2A6-4CA3-B2D9-80F10157C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ự kiến đến 2020 sẽ có khoảng 37 PXN Khẳng định dương tính HI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0C0C764-01BA-43AC-96D4-ECBDF76CAE8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DD1F-644C-441D-A57D-5091F6130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1D59-F838-44C8-843E-965EBA32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A746-74C4-4CF7-A622-A46A4EA6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2C3F-CF7E-4A2C-8B1A-D1C1FF5D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1C38-6140-4794-8964-F3042ADA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4E3D-9B5A-4A95-9A5B-0807DF8F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4B0E-F038-41A2-A0A1-EF86E3FD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8898-5A71-448B-91CA-F132D092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3CDF-2573-4618-8A80-98D83F7A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6C1E-63CC-4E9F-96DE-EFB0D410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A962-5AD9-4822-95EC-13D18F15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568C-6B0E-426C-8906-F52FBF16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91CB-248A-4A97-AFD4-6C0015B0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C0F6-9A78-40A5-A172-C478AD1D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334E-A791-4CF4-8456-A963527C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48DD-DD4D-41C4-B31C-F8DD9FF9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1465-4422-4418-9E2E-396E6B1A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1E32-88CD-4433-9C10-4DF56C99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FE4-4F88-424D-998B-4E43571D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AAD6-8A63-40A5-8268-8EA309EE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C8C1-2620-46DF-B573-6C45547E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E03C-319D-4D3C-8FCD-BBE1CF48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546A-A1CA-4AC1-B192-BCA1C2A4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7B7B-5BC8-4A19-9319-5B92FB30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F843-A660-49A3-AEA9-466116D291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25D8-806B-4768-87DF-E2E08515E2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152640" y="76176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66"/>
                </a:solidFill>
                <a:latin typeface="Times New Roman"/>
              </a:rPr>
              <a:t>CÁC DỊCH VỤ CHUYỂN GỬI TẠI TP.HCM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362320" y="44197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TPC HIV/AIDS TPH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Điều trị HIV - DPLTMS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P Mẹ sang c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ối hợp TTSKSS triển khai 58 CSY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4 Khoa CSSKSS thuộc 24 TTYT Q/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4 BV Q/H, BV Đa khoa KV Củ Chi, Thủ Đứ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05 BV TP: Từ Dũ, Hùng Vương, Nhân dân GĐ, Nguyễn Tri Phương, Trưng Vư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02 BV Tư nhân: Mekong, Phụ sản Quốc t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Điều trị HIV - DPLTMS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71936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Điều trị HI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ển khai điều trị qua BHYT (trừ ARV), mở rộng cơ sở điều trị trong ngà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ăm 2018 TP tiếp tục hỗ trợ 100% chi phí mua thẻ BHYT cho BN có hộ khẩu TPHCM và tạm trú 6 tháng đang điều trị tại TPH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 phòng khám ngoại trú (OPC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30 công lập: 24 Q/H và 6 BV Thành Ph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01 Phòng khám thuộc tổ chức thiện nguyện Mai Khô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Địa chỉ các Khoa Tham vấn hỗ trợ cộng đồng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hoa Tham vấn hỗ trợ cộng đồng (TVHTCĐ): cung cấp dịch vụ miễn ph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ận 1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8 – 52 Mã Lộ, P.Tân Đị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ận 2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Trịnh Khắc Lập, P.Thạnh Mỹ Lợ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ận 3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1 Nguyễn Thượng Hiền, Phường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ận 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6/27 Nguyễn Tất Thành, P.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ận 5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5B Trần Hưng Đạo, P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088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ận 6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39A Hồng Bàng, P.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ận 7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1 Nguyễn Thị Thập, P.Tân Ph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ận 8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24 Phạm Thế Hiển P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ận 9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7 Đường Nguyễn Văn Tăng, P. Long Thạnh M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ận 10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75A CMT8, P.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ận 11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72 Đường số 5, cư xá Bình Thới, P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ận 12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9 Tô Ngọc Vân, Quận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ận Bình Thạn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/104 Đinh Bộ Lĩnh, P.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ận Tân Bìn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4/86 Âu Cơ, P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80880" y="5335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ận Phú Nhuậ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2/6 Huỳnh Văn Bánh, P.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ận Thủ Đức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Nguyễn Văn Lịch, P.Linh Tâ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ận Gò Vấp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/5 Lê Đức Thọ P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ận Bình Tâ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35 Khu phố 2, Tỉnh lộ 10, P.Bình Trị Đô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yện Bình Chán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0 Tân Túc – TT Tân T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yện Hóc Mô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4 Ấp Chánh 2, xã Tân Xuân, Quốc lộ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Địa chỉ phòng khám/TVXN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ng tâm CTXH Ánh Dươ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1 Võ Thị Sáu Q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K Mai Khô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5 B Bà Huyện Thanh Quan, P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K Glink – Thành Da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63/15/6 Tô Hiến Thành, Phường 13, Quận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K Ga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119 Trần Bình Trọng, Phường 2, Quận 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K Nhà Mì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152 Đường Ba Đình, Phường 10, Quận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ng tâm trợ giúp pháp lý (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470 Nguyễn Tri Phương, Phường 9, Quận 10,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C:\Users\DH\Desktop\hinh-nen-ket-thuc-slide-power-point-cuc-hay_1.jpg"/>
          <p:cNvPicPr/>
          <p:nvPr/>
        </p:nvPicPr>
        <p:blipFill>
          <a:blip r:embed="rId2"/>
          <a:stretch/>
        </p:blipFill>
        <p:spPr>
          <a:xfrm>
            <a:off x="457200" y="152280"/>
            <a:ext cx="85345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1224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TỔNG QUAN HOẠT ĐỘNG PC HIV/AID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áng 10 năm 2014 Việt Nam cam kết thực hiện mục tiêu 90-90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924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rcRect l="0" t="0" r="0" b="23393"/>
          <a:stretch/>
        </p:blipFill>
        <p:spPr>
          <a:xfrm>
            <a:off x="1600200" y="1523880"/>
            <a:ext cx="6172200" cy="26989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"/>
          <p:cNvSpPr/>
          <p:nvPr/>
        </p:nvSpPr>
        <p:spPr>
          <a:xfrm>
            <a:off x="1697040" y="4265640"/>
            <a:ext cx="1781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erdana"/>
              </a:rPr>
              <a:t>90% số người nhiễm HIV biết tình trạng nhiễm của mì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763800" y="4238640"/>
            <a:ext cx="1714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erdana"/>
              </a:rPr>
              <a:t>90% người biết tình trạng nhiễm của mình được đưa vào điều tr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649840" y="4226040"/>
            <a:ext cx="1657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erdana"/>
              </a:rPr>
              <a:t>90% số người được đưa vào điều trị khống chế được tải lượng vir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3"/>
          <p:cNvSpPr/>
          <p:nvPr/>
        </p:nvSpPr>
        <p:spPr>
          <a:xfrm>
            <a:off x="1486080" y="378000"/>
            <a:ext cx="668304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Verdana"/>
              </a:rPr>
              <a:t>MỤC TIÊU 90 - 90 - 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ạt động đáp ứ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thiệp dự phò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uyền thô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ếp cận cộng đồng, can thiệp giảm hạ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Phân phát BCS, BKT, CB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ư vấn xét nghiệm HI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Điều trị HIV và dự phòng mẹ sang c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uy động cộng đồ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ác dịch vụ chuyển gử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Điều trị Methad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ư vấn xét nghiệm tự nguyệ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Điều trị HI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ự phòng lây truyền mẹ sang c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òng khám la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hám chữa bệnh ST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ăn phòng hỗ trợ pháp l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Điều trị Methado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3 cơ sở điều tr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21 cơ sở TYTT quận/huyện (trừ CC, Q5, H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01 Sở LĐTBX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01 CSTN Đức Thanh Tâ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ư vấn xét nghiệm HIV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87320" indent="-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Có 145 cơ sở TVXN HIV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7320" indent="-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Cơ sở xét  nghiệm tự nguyện (VCT): 24 quận/huyện và TTCTXH Ánh Dư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7320" indent="-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Xét nghiệm do CBYT đề xuất (PITC): 120 thuộc bệnh viện, CSYT công lập và tư nhâ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7320" indent="-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ó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20 đơn vị/tổ chức triển khai hoạt động TVX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HIV tại cộng đồ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ay testing) - C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7320" indent="-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í điểm tự xét nghiệm (O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ư vấn xét nghiệ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ư vấn trước xét nghiệ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ét nghiệ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ư vấn sau xét nghiệm (Tư vấn trả kết quả X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ấp thẻ xác nhận tình trạng nhiễm HIV (thẻ thể hiện bằng 10 con  số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ỗ trợ dịch vụ chuyển gử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0066"/>
                </a:solidFill>
                <a:latin typeface="Arial"/>
                <a:ea typeface="Arial"/>
              </a:rPr>
              <a:t>TVXN</a:t>
            </a:r>
            <a:endParaRPr b="1" lang="en-US" sz="3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152640" y="685800"/>
            <a:ext cx="90867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5960" indent="-345960"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ện tại, 23 c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  <a:ea typeface="Arial"/>
              </a:rPr>
              <a:t>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ở đủ điều kiện XNKĐ d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  <a:ea typeface="Arial"/>
              </a:rPr>
              <a:t>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ơng tính HI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345960"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1EF1-ACD5-49FC-870B-77BED579FD31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1295280"/>
          <a:ext cx="8686800" cy="5575320"/>
        </p:xfrm>
        <a:graphic>
          <a:graphicData uri="http://schemas.openxmlformats.org/drawingml/2006/table">
            <a:tbl>
              <a:tblPr/>
              <a:tblGrid>
                <a:gridCol w="493920"/>
                <a:gridCol w="3411360"/>
                <a:gridCol w="650880"/>
                <a:gridCol w="533520"/>
                <a:gridCol w="2720880"/>
                <a:gridCol w="876240"/>
              </a:tblGrid>
              <a:tr h="580680"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uyến TW, Tỉnh/Thành ph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uyến Quận/Huyệ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hi ch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498600"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ung tâm Y tế Dự phòng Tp.H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rung tâm Y tế Quận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 rowSpan="6">
                  <a:txBody>
                    <a:bodyPr lIns="68760" rIns="687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37320"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V Bệnh Nhiệt Đớ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rung tâm Y tế Quận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V Phạm Ngọc Thạ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rung tâm Y tế Quận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V Phụ sản Từ D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rung tâm Y tế Quận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V Phụ sản Hùng V</a:t>
                      </a:r>
                      <a:r>
                        <a:rPr b="0" lang="vi-VN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ơ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rung tâm Y tế Quận Thủ Đứ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V Truyền máu huyết họ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rung tâm Y tế Huyện Nhà B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ện Pasteur Tp.H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rung tâm Y tế Quận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 rowSpan="2">
                  <a:txBody>
                    <a:bodyPr lIns="68760" rIns="687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580680"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V Chợ Rẫ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rung tâm Y tế Huyện Hóc Mô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T Y học Dự phòng phía N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rung tâm Y tế Quận 1, TB, BC, GV, BVT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580680"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Bệnh viện Nhân Dân Gia Định (12.201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15:37:04Z</dcterms:created>
  <dc:creator>lamkhanh</dc:creator>
  <dc:description/>
  <dc:language>en-US</dc:language>
  <cp:lastModifiedBy>DH</cp:lastModifiedBy>
  <dcterms:modified xsi:type="dcterms:W3CDTF">2019-02-26T03:15:20Z</dcterms:modified>
  <cp:revision>312</cp:revision>
  <dc:subject/>
  <dc:title>Hoạt động Tham vấn, xét nghiệm HIV tự nguyện</dc:title>
</cp:coreProperties>
</file>